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464-6F27-4842-AC94-EA9FF34F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2A4-15FF-4326-93FC-5B48710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76F-95E2-4F04-AAD2-BA1DB74F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DEE-0D2D-4EF3-B9F1-D3C9BD2E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3B5-5E20-41CB-848E-250FCF68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E41-D054-4D7D-8580-7AAF272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C94-2211-40DA-939A-2DC0405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A96-84D4-45C6-8B21-663D41F9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A7A-9EC3-4943-AD18-9EEF514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15D-B298-44F8-B43D-D49DB3D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363-E21D-4E70-9081-67521CA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229-F8B1-44BA-99D0-2D482C6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8E28-3078-456C-8DD3-4201B53EE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1257480"/>
            <a:ext cx="3524400" cy="39888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asured from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Nort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8120" y="1866960"/>
            <a:ext cx="3543480" cy="39888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 a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clockwis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960" y="2495520"/>
            <a:ext cx="3429000" cy="39888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ritten as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3 fig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343560" y="1851120"/>
            <a:ext cx="79560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4160" y="3984480"/>
            <a:ext cx="8686800" cy="2631240"/>
            <a:chOff x="254160" y="3984480"/>
            <a:chExt cx="8686800" cy="2631240"/>
          </a:xfrm>
        </p:grpSpPr>
        <p:grpSp>
          <p:nvGrpSpPr>
            <p:cNvPr id="46" name=""/>
            <p:cNvGrpSpPr/>
            <p:nvPr/>
          </p:nvGrpSpPr>
          <p:grpSpPr>
            <a:xfrm>
              <a:off x="254160" y="4003560"/>
              <a:ext cx="2647800" cy="2593080"/>
              <a:chOff x="254160" y="4003560"/>
              <a:chExt cx="2647800" cy="25930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660600" y="4343040"/>
                <a:ext cx="1866960" cy="1866960"/>
                <a:chOff x="660600" y="4343040"/>
                <a:chExt cx="1866960" cy="18669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665640" y="4353480"/>
                  <a:ext cx="1856520" cy="1856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60600" y="5281560"/>
                  <a:ext cx="1866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1594080" y="4343040"/>
                  <a:ext cx="0" cy="18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1435320" y="400356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54400" y="628956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97400" y="508932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160" y="5089320"/>
                <a:ext cx="35244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3283200" y="4022640"/>
              <a:ext cx="2647800" cy="2593080"/>
              <a:chOff x="3283200" y="4022640"/>
              <a:chExt cx="2647800" cy="25930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3689640" y="4362120"/>
                <a:ext cx="1866960" cy="1866960"/>
                <a:chOff x="3689640" y="4362120"/>
                <a:chExt cx="1866960" cy="18669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694680" y="4372560"/>
                  <a:ext cx="1856520" cy="1856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689640" y="5300640"/>
                  <a:ext cx="1866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4623120" y="4362120"/>
                  <a:ext cx="0" cy="18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4464360" y="402264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483440" y="630864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26440" y="510840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83200" y="5108400"/>
                <a:ext cx="35244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293160" y="3984480"/>
              <a:ext cx="2647800" cy="2593080"/>
              <a:chOff x="6293160" y="3984480"/>
              <a:chExt cx="2647800" cy="259308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699600" y="4323960"/>
                <a:ext cx="1866960" cy="1866960"/>
                <a:chOff x="6699600" y="4323960"/>
                <a:chExt cx="1866960" cy="1866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704640" y="4334400"/>
                  <a:ext cx="1856520" cy="1856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699600" y="5262480"/>
                  <a:ext cx="1866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7633080" y="4323960"/>
                  <a:ext cx="0" cy="18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7474320" y="398448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93400" y="627048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636400" y="5070240"/>
                <a:ext cx="3045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93160" y="5070240"/>
                <a:ext cx="35244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098800" y="5976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61000" y="5838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44040" y="4543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286760" y="154764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06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93720" y="5276880"/>
            <a:ext cx="561960" cy="757080"/>
          </a:xfrm>
          <a:custGeom>
            <a:avLst/>
            <a:gdLst/>
            <a:ahLst/>
            <a:rect l="l" t="t" r="r" b="b"/>
            <a:pathLst>
              <a:path w="354" h="477">
                <a:moveTo>
                  <a:pt x="0" y="0"/>
                </a:moveTo>
                <a:lnTo>
                  <a:pt x="354" y="4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03400" y="612936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45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03840" y="5300640"/>
            <a:ext cx="718920" cy="590400"/>
          </a:xfrm>
          <a:custGeom>
            <a:avLst/>
            <a:gdLst/>
            <a:ahLst/>
            <a:rect l="l" t="t" r="r" b="b"/>
            <a:pathLst>
              <a:path w="453" h="372">
                <a:moveTo>
                  <a:pt x="453" y="0"/>
                </a:moveTo>
                <a:lnTo>
                  <a:pt x="0" y="3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65480" y="599616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23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981480" y="4603680"/>
            <a:ext cx="65412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32680" y="4243320"/>
            <a:ext cx="698400" cy="3373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315</a:t>
            </a:r>
            <a:r>
              <a:rPr b="1" lang="en-US" sz="16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267600" y="1223640"/>
            <a:ext cx="985680" cy="1040760"/>
            <a:chOff x="6267600" y="1223640"/>
            <a:chExt cx="985680" cy="1040760"/>
          </a:xfrm>
        </p:grpSpPr>
        <p:sp>
          <p:nvSpPr>
            <p:cNvPr id="84" name=""/>
            <p:cNvSpPr/>
            <p:nvPr/>
          </p:nvSpPr>
          <p:spPr>
            <a:xfrm rot="408000">
              <a:off x="6668640" y="1255680"/>
              <a:ext cx="565200" cy="358920"/>
            </a:xfrm>
            <a:custGeom>
              <a:avLst/>
              <a:gdLst/>
              <a:ahLst/>
              <a:rect l="l" t="t" r="r" b="b"/>
              <a:pathLst>
                <a:path w="356" h="226">
                  <a:moveTo>
                    <a:pt x="0" y="0"/>
                  </a:moveTo>
                  <a:cubicBezTo>
                    <a:pt x="39" y="10"/>
                    <a:pt x="78" y="21"/>
                    <a:pt x="110" y="34"/>
                  </a:cubicBezTo>
                  <a:cubicBezTo>
                    <a:pt x="142" y="47"/>
                    <a:pt x="168" y="62"/>
                    <a:pt x="194" y="78"/>
                  </a:cubicBezTo>
                  <a:cubicBezTo>
                    <a:pt x="220" y="94"/>
                    <a:pt x="245" y="115"/>
                    <a:pt x="266" y="132"/>
                  </a:cubicBezTo>
                  <a:cubicBezTo>
                    <a:pt x="287" y="149"/>
                    <a:pt x="303" y="162"/>
                    <a:pt x="318" y="178"/>
                  </a:cubicBezTo>
                  <a:cubicBezTo>
                    <a:pt x="333" y="194"/>
                    <a:pt x="344" y="210"/>
                    <a:pt x="356" y="22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267600" y="1913040"/>
              <a:ext cx="617400" cy="351360"/>
              <a:chOff x="6267600" y="1913040"/>
              <a:chExt cx="617400" cy="35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343560" y="1913040"/>
                <a:ext cx="346320" cy="196920"/>
              </a:xfrm>
              <a:custGeom>
                <a:avLst/>
                <a:gdLst/>
                <a:ahLst/>
                <a:rect l="l" t="t" r="r" b="b"/>
                <a:pathLst>
                  <a:path w="218" h="124">
                    <a:moveTo>
                      <a:pt x="0" y="0"/>
                    </a:moveTo>
                    <a:cubicBezTo>
                      <a:pt x="38" y="1"/>
                      <a:pt x="76" y="3"/>
                      <a:pt x="105" y="13"/>
                    </a:cubicBezTo>
                    <a:cubicBezTo>
                      <a:pt x="134" y="23"/>
                      <a:pt x="152" y="39"/>
                      <a:pt x="171" y="58"/>
                    </a:cubicBezTo>
                    <a:cubicBezTo>
                      <a:pt x="190" y="77"/>
                      <a:pt x="210" y="113"/>
                      <a:pt x="218" y="1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6267600" y="1927080"/>
                <a:ext cx="617400" cy="337320"/>
                <a:chOff x="6267600" y="1927080"/>
                <a:chExt cx="617400" cy="3373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267600" y="1957320"/>
                  <a:ext cx="617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60</a:t>
                  </a:r>
                  <a:r>
                    <a:rPr b="0" lang="en-US" sz="14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17800" y="1927080"/>
                  <a:ext cx="80280" cy="6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1511280" y="4862520"/>
            <a:ext cx="617400" cy="760320"/>
            <a:chOff x="1511280" y="4862520"/>
            <a:chExt cx="617400" cy="760320"/>
          </a:xfrm>
        </p:grpSpPr>
        <p:sp>
          <p:nvSpPr>
            <p:cNvPr id="91" name=""/>
            <p:cNvSpPr/>
            <p:nvPr/>
          </p:nvSpPr>
          <p:spPr>
            <a:xfrm>
              <a:off x="1511280" y="504324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4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8400" y="4862520"/>
              <a:ext cx="438120" cy="760320"/>
            </a:xfrm>
            <a:custGeom>
              <a:avLst/>
              <a:gdLst/>
              <a:ahLst/>
              <a:rect l="l" t="t" r="r" b="b"/>
              <a:pathLst>
                <a:path w="276" h="479">
                  <a:moveTo>
                    <a:pt x="0" y="0"/>
                  </a:moveTo>
                  <a:cubicBezTo>
                    <a:pt x="57" y="9"/>
                    <a:pt x="115" y="18"/>
                    <a:pt x="156" y="42"/>
                  </a:cubicBezTo>
                  <a:cubicBezTo>
                    <a:pt x="197" y="66"/>
                    <a:pt x="226" y="110"/>
                    <a:pt x="246" y="147"/>
                  </a:cubicBezTo>
                  <a:cubicBezTo>
                    <a:pt x="266" y="184"/>
                    <a:pt x="276" y="223"/>
                    <a:pt x="276" y="264"/>
                  </a:cubicBezTo>
                  <a:cubicBezTo>
                    <a:pt x="276" y="305"/>
                    <a:pt x="263" y="360"/>
                    <a:pt x="243" y="396"/>
                  </a:cubicBezTo>
                  <a:cubicBezTo>
                    <a:pt x="223" y="432"/>
                    <a:pt x="172" y="462"/>
                    <a:pt x="153" y="4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3400" y="5126040"/>
              <a:ext cx="2808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89400" y="4902120"/>
            <a:ext cx="865080" cy="816120"/>
            <a:chOff x="4289400" y="4902120"/>
            <a:chExt cx="865080" cy="816120"/>
          </a:xfrm>
        </p:grpSpPr>
        <p:sp>
          <p:nvSpPr>
            <p:cNvPr id="95" name=""/>
            <p:cNvSpPr/>
            <p:nvPr/>
          </p:nvSpPr>
          <p:spPr>
            <a:xfrm>
              <a:off x="4289400" y="4902120"/>
              <a:ext cx="718920" cy="816120"/>
            </a:xfrm>
            <a:custGeom>
              <a:avLst/>
              <a:gdLst/>
              <a:ahLst/>
              <a:rect l="l" t="t" r="r" b="b"/>
              <a:pathLst>
                <a:path w="453" h="514">
                  <a:moveTo>
                    <a:pt x="212" y="0"/>
                  </a:moveTo>
                  <a:cubicBezTo>
                    <a:pt x="275" y="18"/>
                    <a:pt x="338" y="36"/>
                    <a:pt x="378" y="74"/>
                  </a:cubicBezTo>
                  <a:cubicBezTo>
                    <a:pt x="418" y="112"/>
                    <a:pt x="447" y="170"/>
                    <a:pt x="450" y="226"/>
                  </a:cubicBezTo>
                  <a:cubicBezTo>
                    <a:pt x="453" y="282"/>
                    <a:pt x="432" y="362"/>
                    <a:pt x="398" y="408"/>
                  </a:cubicBezTo>
                  <a:cubicBezTo>
                    <a:pt x="364" y="454"/>
                    <a:pt x="296" y="486"/>
                    <a:pt x="248" y="500"/>
                  </a:cubicBezTo>
                  <a:cubicBezTo>
                    <a:pt x="200" y="514"/>
                    <a:pt x="149" y="502"/>
                    <a:pt x="108" y="490"/>
                  </a:cubicBezTo>
                  <a:cubicBezTo>
                    <a:pt x="67" y="478"/>
                    <a:pt x="22" y="441"/>
                    <a:pt x="0" y="4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37080" y="523404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3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6760" y="5073840"/>
              <a:ext cx="3708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259760" y="4911840"/>
            <a:ext cx="738000" cy="717480"/>
            <a:chOff x="7259760" y="4911840"/>
            <a:chExt cx="738000" cy="717480"/>
          </a:xfrm>
        </p:grpSpPr>
        <p:sp>
          <p:nvSpPr>
            <p:cNvPr id="99" name=""/>
            <p:cNvSpPr/>
            <p:nvPr/>
          </p:nvSpPr>
          <p:spPr>
            <a:xfrm>
              <a:off x="7259760" y="4911840"/>
              <a:ext cx="738000" cy="717480"/>
            </a:xfrm>
            <a:custGeom>
              <a:avLst/>
              <a:gdLst/>
              <a:ahLst/>
              <a:rect l="l" t="t" r="r" b="b"/>
              <a:pathLst>
                <a:path w="465" h="452">
                  <a:moveTo>
                    <a:pt x="235" y="0"/>
                  </a:moveTo>
                  <a:cubicBezTo>
                    <a:pt x="283" y="9"/>
                    <a:pt x="332" y="19"/>
                    <a:pt x="367" y="42"/>
                  </a:cubicBezTo>
                  <a:cubicBezTo>
                    <a:pt x="402" y="65"/>
                    <a:pt x="430" y="104"/>
                    <a:pt x="445" y="138"/>
                  </a:cubicBezTo>
                  <a:cubicBezTo>
                    <a:pt x="460" y="172"/>
                    <a:pt x="465" y="210"/>
                    <a:pt x="459" y="248"/>
                  </a:cubicBezTo>
                  <a:cubicBezTo>
                    <a:pt x="453" y="286"/>
                    <a:pt x="436" y="333"/>
                    <a:pt x="411" y="364"/>
                  </a:cubicBezTo>
                  <a:cubicBezTo>
                    <a:pt x="386" y="395"/>
                    <a:pt x="341" y="420"/>
                    <a:pt x="311" y="434"/>
                  </a:cubicBezTo>
                  <a:cubicBezTo>
                    <a:pt x="281" y="448"/>
                    <a:pt x="261" y="452"/>
                    <a:pt x="227" y="448"/>
                  </a:cubicBezTo>
                  <a:cubicBezTo>
                    <a:pt x="193" y="444"/>
                    <a:pt x="143" y="441"/>
                    <a:pt x="107" y="410"/>
                  </a:cubicBezTo>
                  <a:cubicBezTo>
                    <a:pt x="71" y="379"/>
                    <a:pt x="26" y="308"/>
                    <a:pt x="13" y="262"/>
                  </a:cubicBezTo>
                  <a:cubicBezTo>
                    <a:pt x="0" y="216"/>
                    <a:pt x="17" y="168"/>
                    <a:pt x="29" y="134"/>
                  </a:cubicBezTo>
                  <a:cubicBezTo>
                    <a:pt x="41" y="100"/>
                    <a:pt x="63" y="79"/>
                    <a:pt x="85" y="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50120" y="5221080"/>
              <a:ext cx="61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13160" y="5056200"/>
              <a:ext cx="5472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790800" y="228600"/>
            <a:ext cx="4656240" cy="3797280"/>
            <a:chOff x="3790800" y="228600"/>
            <a:chExt cx="4656240" cy="3797280"/>
          </a:xfrm>
        </p:grpSpPr>
        <p:sp>
          <p:nvSpPr>
            <p:cNvPr id="103" name=""/>
            <p:cNvSpPr/>
            <p:nvPr/>
          </p:nvSpPr>
          <p:spPr>
            <a:xfrm>
              <a:off x="7095960" y="18003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790800" y="228600"/>
              <a:ext cx="4656240" cy="3797280"/>
              <a:chOff x="3790800" y="228600"/>
              <a:chExt cx="4656240" cy="3797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790800" y="228600"/>
                <a:ext cx="1695600" cy="459720"/>
              </a:xfrm>
              <a:prstGeom prst="rect">
                <a:avLst/>
              </a:prstGeom>
              <a:gradFill rotWithShape="0">
                <a:gsLst>
                  <a:gs pos="0">
                    <a:srgbClr val="8686a8"/>
                  </a:gs>
                  <a:gs pos="50000">
                    <a:srgbClr val="ccccff"/>
                  </a:gs>
                  <a:gs pos="100000">
                    <a:srgbClr val="8686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earin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003640" y="1041480"/>
                <a:ext cx="2647800" cy="2593080"/>
                <a:chOff x="5003640" y="1041480"/>
                <a:chExt cx="2647800" cy="259308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410080" y="1380960"/>
                  <a:ext cx="1866960" cy="1866960"/>
                  <a:chOff x="5410080" y="1380960"/>
                  <a:chExt cx="1866960" cy="1866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415120" y="1391400"/>
                    <a:ext cx="1856520" cy="18565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410080" y="2319480"/>
                    <a:ext cx="1866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6343560" y="1380960"/>
                    <a:ext cx="0" cy="18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6184800" y="1041480"/>
                  <a:ext cx="30456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203880" y="3327480"/>
                  <a:ext cx="30456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46880" y="2127240"/>
                  <a:ext cx="30456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3640" y="2127240"/>
                  <a:ext cx="352440" cy="30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8a886"/>
                    </a:gs>
                    <a:gs pos="50000">
                      <a:srgbClr val="ffffcc"/>
                    </a:gs>
                    <a:gs pos="100000">
                      <a:srgbClr val="a8a886"/>
                    </a:gs>
                  </a:gsLst>
                  <a:lin ang="5400000"/>
                </a:gra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cc"/>
                      </a:solidFill>
                      <a:latin typeface="Comic Sans MS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7693200" y="211932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9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84760" y="644400"/>
                <a:ext cx="124956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60/00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03720" y="2111400"/>
                <a:ext cx="75420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7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81760" y="365760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533520" y="236520"/>
            <a:ext cx="7213320" cy="6022080"/>
            <a:chOff x="533520" y="236520"/>
            <a:chExt cx="7213320" cy="6022080"/>
          </a:xfrm>
        </p:grpSpPr>
        <p:grpSp>
          <p:nvGrpSpPr>
            <p:cNvPr id="505" name=""/>
            <p:cNvGrpSpPr/>
            <p:nvPr/>
          </p:nvGrpSpPr>
          <p:grpSpPr>
            <a:xfrm>
              <a:off x="933480" y="236520"/>
              <a:ext cx="6743520" cy="1442160"/>
              <a:chOff x="933480" y="236520"/>
              <a:chExt cx="6743520" cy="1442160"/>
            </a:xfrm>
          </p:grpSpPr>
          <p:sp>
            <p:nvSpPr>
              <p:cNvPr id="506" name=""/>
              <p:cNvSpPr/>
              <p:nvPr/>
            </p:nvSpPr>
            <p:spPr>
              <a:xfrm>
                <a:off x="3333600" y="236520"/>
                <a:ext cx="1695600" cy="459720"/>
              </a:xfrm>
              <a:prstGeom prst="rect">
                <a:avLst/>
              </a:prstGeom>
              <a:gradFill rotWithShape="0">
                <a:gsLst>
                  <a:gs pos="0">
                    <a:srgbClr val="8686a8"/>
                  </a:gs>
                  <a:gs pos="50000">
                    <a:srgbClr val="ccccff"/>
                  </a:gs>
                  <a:gs pos="100000">
                    <a:srgbClr val="8686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earin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33480" y="914400"/>
                <a:ext cx="6743520" cy="764280"/>
              </a:xfrm>
              <a:prstGeom prst="rect">
                <a:avLst/>
              </a:prstGeom>
              <a:gradFill rotWithShape="0">
                <a:gsLst>
                  <a:gs pos="0">
                    <a:srgbClr val="212186"/>
                  </a:gs>
                  <a:gs pos="50000">
                    <a:srgbClr val="3333cc"/>
                  </a:gs>
                  <a:gs pos="100000">
                    <a:srgbClr val="2121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Comic Sans MS"/>
                  </a:rPr>
                  <a:t>Measuring the bearing of one point from another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H="1" flipV="1">
              <a:off x="3890520" y="3476520"/>
              <a:ext cx="28767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562200" y="1695600"/>
              <a:ext cx="628920" cy="1777680"/>
              <a:chOff x="3562200" y="1695600"/>
              <a:chExt cx="628920" cy="1777680"/>
            </a:xfrm>
          </p:grpSpPr>
          <p:sp>
            <p:nvSpPr>
              <p:cNvPr id="510" name=""/>
              <p:cNvSpPr/>
              <p:nvPr/>
            </p:nvSpPr>
            <p:spPr>
              <a:xfrm flipV="1">
                <a:off x="3905280" y="2209680"/>
                <a:ext cx="0" cy="126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562200" y="1695600"/>
                <a:ext cx="62892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3911760" y="219708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705720" y="4981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1320" y="3219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1680" y="5029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52720" y="3419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53400" y="4603680"/>
              <a:ext cx="79344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18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6438960" y="2381400"/>
              <a:ext cx="628560" cy="2685600"/>
              <a:chOff x="6438960" y="2381400"/>
              <a:chExt cx="628560" cy="2685600"/>
            </a:xfrm>
          </p:grpSpPr>
          <p:sp>
            <p:nvSpPr>
              <p:cNvPr id="519" name=""/>
              <p:cNvSpPr/>
              <p:nvPr/>
            </p:nvSpPr>
            <p:spPr>
              <a:xfrm flipV="1">
                <a:off x="6781680" y="2895120"/>
                <a:ext cx="0" cy="217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38960" y="2381400"/>
                <a:ext cx="62856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6788160" y="288288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819520" y="2793960"/>
              <a:ext cx="79380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98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5067360"/>
              <a:ext cx="3676680" cy="119124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w are the bearings of A and B from each other related and why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457200" y="304920"/>
          <a:ext cx="8381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8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71880" y="285840"/>
            <a:ext cx="4590720" cy="45972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rings: Fixing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14440" y="857160"/>
            <a:ext cx="8076960" cy="5683320"/>
            <a:chOff x="514440" y="857160"/>
            <a:chExt cx="8076960" cy="5683320"/>
          </a:xfrm>
        </p:grpSpPr>
        <p:sp>
          <p:nvSpPr>
            <p:cNvPr id="530" name=""/>
            <p:cNvSpPr/>
            <p:nvPr/>
          </p:nvSpPr>
          <p:spPr>
            <a:xfrm>
              <a:off x="590400" y="857160"/>
              <a:ext cx="8001000" cy="1923480"/>
            </a:xfrm>
            <a:prstGeom prst="rect">
              <a:avLst/>
            </a:prstGeom>
            <a:gradFill rotWithShape="0">
              <a:gsLst>
                <a:gs pos="0">
                  <a:srgbClr val="c1c19a"/>
                </a:gs>
                <a:gs pos="50000">
                  <a:srgbClr val="ffffcc"/>
                </a:gs>
                <a:gs pos="100000">
                  <a:srgbClr val="c1c19a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ainee pilots have to to learn to cope  when the unexpected happens. If their navigation equipment fails they can quickly find their position by calling controllers at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ifferent airfields for a bearing. The two bearings will tell the pilot where he is. The initial call on the controllers radio frequency will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igger a line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on the radar screen showing the bearing of the calling aircra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514440" y="5543640"/>
              <a:ext cx="2190600" cy="996840"/>
              <a:chOff x="514440" y="5543640"/>
              <a:chExt cx="2190600" cy="996840"/>
            </a:xfrm>
          </p:grpSpPr>
          <p:sp>
            <p:nvSpPr>
              <p:cNvPr id="532" name=""/>
              <p:cNvSpPr/>
              <p:nvPr/>
            </p:nvSpPr>
            <p:spPr>
              <a:xfrm>
                <a:off x="800280" y="584820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67000" y="554364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4440" y="617220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283.2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867280" y="4686480"/>
              <a:ext cx="2171880" cy="958680"/>
              <a:chOff x="5867280" y="4686480"/>
              <a:chExt cx="2171880" cy="958680"/>
            </a:xfrm>
          </p:grpSpPr>
          <p:sp>
            <p:nvSpPr>
              <p:cNvPr id="536" name=""/>
              <p:cNvSpPr/>
              <p:nvPr/>
            </p:nvSpPr>
            <p:spPr>
              <a:xfrm>
                <a:off x="6134040" y="493380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05720" y="468648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7280" y="527688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306.7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819000" y="2914560"/>
            <a:ext cx="4019760" cy="2705040"/>
            <a:chOff x="819000" y="2914560"/>
            <a:chExt cx="4019760" cy="2705040"/>
          </a:xfrm>
        </p:grpSpPr>
        <p:sp>
          <p:nvSpPr>
            <p:cNvPr id="540" name=""/>
            <p:cNvSpPr/>
            <p:nvPr/>
          </p:nvSpPr>
          <p:spPr>
            <a:xfrm flipV="1">
              <a:off x="1562040" y="2914560"/>
              <a:ext cx="3276720" cy="27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9000" y="4971960"/>
              <a:ext cx="95256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05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429000" y="2952720"/>
            <a:ext cx="4152960" cy="1828800"/>
            <a:chOff x="3429000" y="2952720"/>
            <a:chExt cx="4152960" cy="1828800"/>
          </a:xfrm>
        </p:grpSpPr>
        <p:sp>
          <p:nvSpPr>
            <p:cNvPr id="543" name=""/>
            <p:cNvSpPr/>
            <p:nvPr/>
          </p:nvSpPr>
          <p:spPr>
            <a:xfrm flipH="1" flipV="1">
              <a:off x="3429000" y="2952720"/>
              <a:ext cx="337176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29400" y="4133880"/>
              <a:ext cx="95256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30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38680" y="3113280"/>
            <a:ext cx="971280" cy="1064520"/>
            <a:chOff x="3838680" y="3113280"/>
            <a:chExt cx="971280" cy="1064520"/>
          </a:xfrm>
        </p:grpSpPr>
        <p:grpSp>
          <p:nvGrpSpPr>
            <p:cNvPr id="546" name=""/>
            <p:cNvGrpSpPr/>
            <p:nvPr/>
          </p:nvGrpSpPr>
          <p:grpSpPr>
            <a:xfrm>
              <a:off x="3947400" y="3113280"/>
              <a:ext cx="594360" cy="529920"/>
              <a:chOff x="3947400" y="3113280"/>
              <a:chExt cx="594360" cy="529920"/>
            </a:xfrm>
          </p:grpSpPr>
          <p:sp>
            <p:nvSpPr>
              <p:cNvPr id="547" name=""/>
              <p:cNvSpPr/>
              <p:nvPr/>
            </p:nvSpPr>
            <p:spPr>
              <a:xfrm rot="10296000">
                <a:off x="3978000" y="3149280"/>
                <a:ext cx="533160" cy="457200"/>
              </a:xfrm>
              <a:custGeom>
                <a:avLst/>
                <a:gdLst/>
                <a:ahLst/>
                <a:rect l="l" t="t" r="r" b="b"/>
                <a:pathLst>
                  <a:path w="3438" h="3493">
                    <a:moveTo>
                      <a:pt x="1912" y="2916"/>
                    </a:moveTo>
                    <a:lnTo>
                      <a:pt x="1912" y="2045"/>
                    </a:lnTo>
                    <a:lnTo>
                      <a:pt x="3438" y="2597"/>
                    </a:lnTo>
                    <a:lnTo>
                      <a:pt x="3438" y="2161"/>
                    </a:lnTo>
                    <a:lnTo>
                      <a:pt x="1912" y="1276"/>
                    </a:lnTo>
                    <a:lnTo>
                      <a:pt x="1912" y="200"/>
                    </a:lnTo>
                    <a:lnTo>
                      <a:pt x="1907" y="159"/>
                    </a:lnTo>
                    <a:lnTo>
                      <a:pt x="1896" y="122"/>
                    </a:lnTo>
                    <a:lnTo>
                      <a:pt x="1876" y="88"/>
                    </a:lnTo>
                    <a:lnTo>
                      <a:pt x="1853" y="58"/>
                    </a:lnTo>
                    <a:lnTo>
                      <a:pt x="1822" y="33"/>
                    </a:lnTo>
                    <a:lnTo>
                      <a:pt x="1789" y="15"/>
                    </a:lnTo>
                    <a:lnTo>
                      <a:pt x="1753" y="4"/>
                    </a:lnTo>
                    <a:lnTo>
                      <a:pt x="1713" y="0"/>
                    </a:lnTo>
                    <a:lnTo>
                      <a:pt x="1672" y="4"/>
                    </a:lnTo>
                    <a:lnTo>
                      <a:pt x="1635" y="15"/>
                    </a:lnTo>
                    <a:lnTo>
                      <a:pt x="1601" y="33"/>
                    </a:lnTo>
                    <a:lnTo>
                      <a:pt x="1571" y="58"/>
                    </a:lnTo>
                    <a:lnTo>
                      <a:pt x="1546" y="88"/>
                    </a:lnTo>
                    <a:lnTo>
                      <a:pt x="1528" y="122"/>
                    </a:lnTo>
                    <a:lnTo>
                      <a:pt x="1517" y="159"/>
                    </a:lnTo>
                    <a:lnTo>
                      <a:pt x="1513" y="200"/>
                    </a:lnTo>
                    <a:lnTo>
                      <a:pt x="1513" y="1286"/>
                    </a:lnTo>
                    <a:lnTo>
                      <a:pt x="0" y="2167"/>
                    </a:lnTo>
                    <a:lnTo>
                      <a:pt x="0" y="2597"/>
                    </a:lnTo>
                    <a:lnTo>
                      <a:pt x="1513" y="2054"/>
                    </a:lnTo>
                    <a:lnTo>
                      <a:pt x="1513" y="2927"/>
                    </a:lnTo>
                    <a:lnTo>
                      <a:pt x="1196" y="3163"/>
                    </a:lnTo>
                    <a:lnTo>
                      <a:pt x="1196" y="3493"/>
                    </a:lnTo>
                    <a:lnTo>
                      <a:pt x="1713" y="3328"/>
                    </a:lnTo>
                    <a:lnTo>
                      <a:pt x="2279" y="3487"/>
                    </a:lnTo>
                    <a:lnTo>
                      <a:pt x="2279" y="3194"/>
                    </a:lnTo>
                    <a:lnTo>
                      <a:pt x="1912" y="29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6990600">
                <a:off x="4217400" y="3350880"/>
                <a:ext cx="75960" cy="75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838680" y="3657600"/>
              <a:ext cx="97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anky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457200" y="285840"/>
            <a:ext cx="8134200" cy="5359320"/>
            <a:chOff x="457200" y="285840"/>
            <a:chExt cx="8134200" cy="5359320"/>
          </a:xfrm>
        </p:grpSpPr>
        <p:sp>
          <p:nvSpPr>
            <p:cNvPr id="551" name=""/>
            <p:cNvSpPr/>
            <p:nvPr/>
          </p:nvSpPr>
          <p:spPr>
            <a:xfrm>
              <a:off x="2171880" y="285840"/>
              <a:ext cx="459072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: Fixing 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0400" y="857160"/>
              <a:ext cx="8001000" cy="1923480"/>
            </a:xfrm>
            <a:prstGeom prst="rect">
              <a:avLst/>
            </a:prstGeom>
            <a:gradFill rotWithShape="0">
              <a:gsLst>
                <a:gs pos="0">
                  <a:srgbClr val="c1c19a"/>
                </a:gs>
                <a:gs pos="50000">
                  <a:srgbClr val="ffffcc"/>
                </a:gs>
                <a:gs pos="100000">
                  <a:srgbClr val="c1c19a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rainee pilots have to to learn to be cope  when the unexpected happens. If their navigation equipment fails they can quickly find their position by calling controllers at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different airfields for a bearing. The two bearings will tell the pilot where he is. The initial call on the controllers radio frequency will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rigger a line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 on the radar screen showing the bearing of the calling aircra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57200" y="3124080"/>
              <a:ext cx="2190600" cy="914400"/>
              <a:chOff x="457200" y="3124080"/>
              <a:chExt cx="2190600" cy="914400"/>
            </a:xfrm>
          </p:grpSpPr>
          <p:sp>
            <p:nvSpPr>
              <p:cNvPr id="554" name=""/>
              <p:cNvSpPr/>
              <p:nvPr/>
            </p:nvSpPr>
            <p:spPr>
              <a:xfrm>
                <a:off x="743040" y="3124080"/>
                <a:ext cx="190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2520" y="386712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57200" y="344808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283.2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867280" y="4686480"/>
              <a:ext cx="2171880" cy="958680"/>
              <a:chOff x="5867280" y="4686480"/>
              <a:chExt cx="2171880" cy="958680"/>
            </a:xfrm>
          </p:grpSpPr>
          <p:sp>
            <p:nvSpPr>
              <p:cNvPr id="558" name=""/>
              <p:cNvSpPr/>
              <p:nvPr/>
            </p:nvSpPr>
            <p:spPr>
              <a:xfrm>
                <a:off x="6134040" y="493380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irfield (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05720" y="4686480"/>
                <a:ext cx="171360" cy="171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7280" y="5276880"/>
                <a:ext cx="20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306.7 MHZ UH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1544400" y="5500800"/>
            <a:ext cx="1251360" cy="896040"/>
            <a:chOff x="1544400" y="5500800"/>
            <a:chExt cx="1251360" cy="896040"/>
          </a:xfrm>
        </p:grpSpPr>
        <p:grpSp>
          <p:nvGrpSpPr>
            <p:cNvPr id="562" name=""/>
            <p:cNvGrpSpPr/>
            <p:nvPr/>
          </p:nvGrpSpPr>
          <p:grpSpPr>
            <a:xfrm>
              <a:off x="1544400" y="5769720"/>
              <a:ext cx="667800" cy="627120"/>
              <a:chOff x="1544400" y="5769720"/>
              <a:chExt cx="667800" cy="627120"/>
            </a:xfrm>
          </p:grpSpPr>
          <p:sp>
            <p:nvSpPr>
              <p:cNvPr id="563" name=""/>
              <p:cNvSpPr/>
              <p:nvPr/>
            </p:nvSpPr>
            <p:spPr>
              <a:xfrm rot="1354200">
                <a:off x="1611360" y="5854320"/>
                <a:ext cx="533520" cy="457200"/>
              </a:xfrm>
              <a:custGeom>
                <a:avLst/>
                <a:gdLst/>
                <a:ahLst/>
                <a:rect l="l" t="t" r="r" b="b"/>
                <a:pathLst>
                  <a:path w="3438" h="3493">
                    <a:moveTo>
                      <a:pt x="1912" y="2916"/>
                    </a:moveTo>
                    <a:lnTo>
                      <a:pt x="1912" y="2045"/>
                    </a:lnTo>
                    <a:lnTo>
                      <a:pt x="3438" y="2597"/>
                    </a:lnTo>
                    <a:lnTo>
                      <a:pt x="3438" y="2161"/>
                    </a:lnTo>
                    <a:lnTo>
                      <a:pt x="1912" y="1276"/>
                    </a:lnTo>
                    <a:lnTo>
                      <a:pt x="1912" y="200"/>
                    </a:lnTo>
                    <a:lnTo>
                      <a:pt x="1907" y="159"/>
                    </a:lnTo>
                    <a:lnTo>
                      <a:pt x="1896" y="122"/>
                    </a:lnTo>
                    <a:lnTo>
                      <a:pt x="1876" y="88"/>
                    </a:lnTo>
                    <a:lnTo>
                      <a:pt x="1853" y="58"/>
                    </a:lnTo>
                    <a:lnTo>
                      <a:pt x="1822" y="33"/>
                    </a:lnTo>
                    <a:lnTo>
                      <a:pt x="1789" y="15"/>
                    </a:lnTo>
                    <a:lnTo>
                      <a:pt x="1753" y="4"/>
                    </a:lnTo>
                    <a:lnTo>
                      <a:pt x="1713" y="0"/>
                    </a:lnTo>
                    <a:lnTo>
                      <a:pt x="1672" y="4"/>
                    </a:lnTo>
                    <a:lnTo>
                      <a:pt x="1635" y="15"/>
                    </a:lnTo>
                    <a:lnTo>
                      <a:pt x="1601" y="33"/>
                    </a:lnTo>
                    <a:lnTo>
                      <a:pt x="1571" y="58"/>
                    </a:lnTo>
                    <a:lnTo>
                      <a:pt x="1546" y="88"/>
                    </a:lnTo>
                    <a:lnTo>
                      <a:pt x="1528" y="122"/>
                    </a:lnTo>
                    <a:lnTo>
                      <a:pt x="1517" y="159"/>
                    </a:lnTo>
                    <a:lnTo>
                      <a:pt x="1513" y="200"/>
                    </a:lnTo>
                    <a:lnTo>
                      <a:pt x="1513" y="1286"/>
                    </a:lnTo>
                    <a:lnTo>
                      <a:pt x="0" y="2167"/>
                    </a:lnTo>
                    <a:lnTo>
                      <a:pt x="0" y="2597"/>
                    </a:lnTo>
                    <a:lnTo>
                      <a:pt x="1513" y="2054"/>
                    </a:lnTo>
                    <a:lnTo>
                      <a:pt x="1513" y="2927"/>
                    </a:lnTo>
                    <a:lnTo>
                      <a:pt x="1196" y="3163"/>
                    </a:lnTo>
                    <a:lnTo>
                      <a:pt x="1196" y="3493"/>
                    </a:lnTo>
                    <a:lnTo>
                      <a:pt x="1713" y="3328"/>
                    </a:lnTo>
                    <a:lnTo>
                      <a:pt x="2279" y="3487"/>
                    </a:lnTo>
                    <a:lnTo>
                      <a:pt x="2279" y="3194"/>
                    </a:lnTo>
                    <a:lnTo>
                      <a:pt x="1912" y="29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648800">
                <a:off x="1836360" y="60303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824120" y="5500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anky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57200" y="3957480"/>
            <a:ext cx="1566720" cy="2838600"/>
            <a:chOff x="457200" y="3957480"/>
            <a:chExt cx="1566720" cy="2838600"/>
          </a:xfrm>
        </p:grpSpPr>
        <p:sp>
          <p:nvSpPr>
            <p:cNvPr id="567" name=""/>
            <p:cNvSpPr/>
            <p:nvPr/>
          </p:nvSpPr>
          <p:spPr>
            <a:xfrm>
              <a:off x="1433520" y="3957480"/>
              <a:ext cx="590400" cy="2838600"/>
            </a:xfrm>
            <a:custGeom>
              <a:avLst/>
              <a:gdLst/>
              <a:ahLst/>
              <a:rect l="l" t="t" r="r" b="b"/>
              <a:pathLst>
                <a:path w="372" h="1788">
                  <a:moveTo>
                    <a:pt x="0" y="0"/>
                  </a:moveTo>
                  <a:lnTo>
                    <a:pt x="372" y="17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4152960"/>
              <a:ext cx="89532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17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7200" y="4324320"/>
            <a:ext cx="6334200" cy="2133720"/>
            <a:chOff x="457200" y="4324320"/>
            <a:chExt cx="6334200" cy="2133720"/>
          </a:xfrm>
        </p:grpSpPr>
        <p:sp>
          <p:nvSpPr>
            <p:cNvPr id="570" name=""/>
            <p:cNvSpPr/>
            <p:nvPr/>
          </p:nvSpPr>
          <p:spPr>
            <a:xfrm>
              <a:off x="457200" y="4767120"/>
              <a:ext cx="6334200" cy="1690920"/>
            </a:xfrm>
            <a:custGeom>
              <a:avLst/>
              <a:gdLst/>
              <a:ahLst/>
              <a:rect l="l" t="t" r="r" b="b"/>
              <a:pathLst>
                <a:path w="3990" h="1065">
                  <a:moveTo>
                    <a:pt x="3990" y="0"/>
                  </a:moveTo>
                  <a:lnTo>
                    <a:pt x="0" y="10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24600" y="4324320"/>
              <a:ext cx="895320" cy="42912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255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173560" y="2338560"/>
            <a:ext cx="3000600" cy="3019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55560" y="3341520"/>
            <a:ext cx="3000600" cy="301968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419040" y="228600"/>
            <a:ext cx="8400960" cy="5077440"/>
            <a:chOff x="419040" y="228600"/>
            <a:chExt cx="8400960" cy="5077440"/>
          </a:xfrm>
        </p:grpSpPr>
        <p:grpSp>
          <p:nvGrpSpPr>
            <p:cNvPr id="575" name=""/>
            <p:cNvGrpSpPr/>
            <p:nvPr/>
          </p:nvGrpSpPr>
          <p:grpSpPr>
            <a:xfrm>
              <a:off x="1657440" y="4800600"/>
              <a:ext cx="514440" cy="505440"/>
              <a:chOff x="1657440" y="4800600"/>
              <a:chExt cx="514440" cy="505440"/>
            </a:xfrm>
          </p:grpSpPr>
          <p:sp>
            <p:nvSpPr>
              <p:cNvPr id="576" name=""/>
              <p:cNvSpPr/>
              <p:nvPr/>
            </p:nvSpPr>
            <p:spPr>
              <a:xfrm>
                <a:off x="2057400" y="4800600"/>
                <a:ext cx="11448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657440" y="48769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572160" y="3790800"/>
              <a:ext cx="647640" cy="429120"/>
              <a:chOff x="6572160" y="3790800"/>
              <a:chExt cx="647640" cy="429120"/>
            </a:xfrm>
          </p:grpSpPr>
          <p:sp>
            <p:nvSpPr>
              <p:cNvPr id="579" name=""/>
              <p:cNvSpPr/>
              <p:nvPr/>
            </p:nvSpPr>
            <p:spPr>
              <a:xfrm>
                <a:off x="6572160" y="3790800"/>
                <a:ext cx="114480" cy="114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762600" y="379080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9040" y="228600"/>
              <a:ext cx="8400960" cy="764280"/>
            </a:xfrm>
            <a:prstGeom prst="rect">
              <a:avLst/>
            </a:prstGeom>
            <a:gradFill rotWithShape="0">
              <a:gsLst>
                <a:gs pos="0">
                  <a:srgbClr val="a78da5"/>
                </a:gs>
                <a:gs pos="50000">
                  <a:srgbClr val="fed6fa"/>
                </a:gs>
                <a:gs pos="100000">
                  <a:srgbClr val="a78da5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. Find the position of a point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C,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if it is on a bearing of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045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from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and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290</a:t>
              </a:r>
              <a:r>
                <a:rPr b="0" lang="en-US" sz="22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from </a:t>
              </a:r>
              <a:r>
                <a:rPr b="0" lang="en-US" sz="2200" spc="-1" strike="noStrike">
                  <a:solidFill>
                    <a:srgbClr val="3333cc"/>
                  </a:solidFill>
                  <a:latin typeface="Comic Sans MS"/>
                </a:rPr>
                <a:t>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 flipV="1">
            <a:off x="2114640" y="1885680"/>
            <a:ext cx="2990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2101320" y="2120400"/>
            <a:ext cx="4534200" cy="172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848040" y="2374920"/>
            <a:ext cx="419040" cy="552600"/>
            <a:chOff x="3848040" y="2374920"/>
            <a:chExt cx="419040" cy="552600"/>
          </a:xfrm>
        </p:grpSpPr>
        <p:sp>
          <p:nvSpPr>
            <p:cNvPr id="585" name=""/>
            <p:cNvSpPr/>
            <p:nvPr/>
          </p:nvSpPr>
          <p:spPr>
            <a:xfrm>
              <a:off x="4044960" y="2832120"/>
              <a:ext cx="95400" cy="95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48040" y="2374920"/>
              <a:ext cx="419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99960" y="1104840"/>
            <a:ext cx="8477280" cy="794880"/>
          </a:xfrm>
          <a:prstGeom prst="rect">
            <a:avLst/>
          </a:prstGeom>
          <a:gradFill rotWithShape="0">
            <a:gsLst>
              <a:gs pos="0">
                <a:srgbClr val="a78da5"/>
              </a:gs>
              <a:gs pos="50000">
                <a:srgbClr val="fed6fa"/>
              </a:gs>
              <a:gs pos="100000">
                <a:srgbClr val="a78da5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d the position of a poin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f it is on a bearing of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12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215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rom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14640" y="4857840"/>
            <a:ext cx="2952720" cy="1739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559400" y="3848040"/>
            <a:ext cx="2070000" cy="290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540320" y="5924520"/>
            <a:ext cx="419040" cy="552600"/>
            <a:chOff x="4540320" y="5924520"/>
            <a:chExt cx="419040" cy="552600"/>
          </a:xfrm>
        </p:grpSpPr>
        <p:sp>
          <p:nvSpPr>
            <p:cNvPr id="591" name=""/>
            <p:cNvSpPr/>
            <p:nvPr/>
          </p:nvSpPr>
          <p:spPr>
            <a:xfrm>
              <a:off x="4737240" y="6381720"/>
              <a:ext cx="95400" cy="95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40320" y="5924520"/>
              <a:ext cx="419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124760" y="6191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0" y="236520"/>
            <a:ext cx="7513560" cy="6375960"/>
            <a:chOff x="0" y="236520"/>
            <a:chExt cx="7513560" cy="6375960"/>
          </a:xfrm>
        </p:grpSpPr>
        <p:grpSp>
          <p:nvGrpSpPr>
            <p:cNvPr id="595" name=""/>
            <p:cNvGrpSpPr/>
            <p:nvPr/>
          </p:nvGrpSpPr>
          <p:grpSpPr>
            <a:xfrm>
              <a:off x="2282760" y="1865160"/>
              <a:ext cx="3694320" cy="3694320"/>
              <a:chOff x="2282760" y="1865160"/>
              <a:chExt cx="3694320" cy="3694320"/>
            </a:xfrm>
          </p:grpSpPr>
          <p:sp>
            <p:nvSpPr>
              <p:cNvPr id="596" name=""/>
              <p:cNvSpPr/>
              <p:nvPr/>
            </p:nvSpPr>
            <p:spPr>
              <a:xfrm>
                <a:off x="2293920" y="1886040"/>
                <a:ext cx="3673440" cy="3673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282760" y="1865160"/>
                <a:ext cx="3694320" cy="3694320"/>
                <a:chOff x="2282760" y="1865160"/>
                <a:chExt cx="3694320" cy="36943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282760" y="3722760"/>
                  <a:ext cx="369432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4130640" y="1865160"/>
                  <a:ext cx="0" cy="369432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0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698400" y="968400"/>
              <a:ext cx="6815160" cy="5400720"/>
              <a:chOff x="698400" y="968400"/>
              <a:chExt cx="6815160" cy="5400720"/>
            </a:xfrm>
          </p:grpSpPr>
          <p:sp>
            <p:nvSpPr>
              <p:cNvPr id="602" name=""/>
              <p:cNvSpPr/>
              <p:nvPr/>
            </p:nvSpPr>
            <p:spPr>
              <a:xfrm>
                <a:off x="3835440" y="1460520"/>
                <a:ext cx="6033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835440" y="5640480"/>
                <a:ext cx="6033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076800" y="3551400"/>
                <a:ext cx="6033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98680" y="3513240"/>
                <a:ext cx="696960" cy="3070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Comic Sans MS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59720" y="351000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9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94160" y="968400"/>
                <a:ext cx="124920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00/36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8400" y="3444840"/>
                <a:ext cx="75420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7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53000" y="6000840"/>
                <a:ext cx="753840" cy="36828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2374920" y="1892160"/>
                <a:ext cx="3594240" cy="3594240"/>
                <a:chOff x="2374920" y="1892160"/>
                <a:chExt cx="3594240" cy="3594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724280" y="196200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03960" y="240660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905440" y="337176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33080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378400" y="502272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705200" y="5423040"/>
                  <a:ext cx="6372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187800" y="528948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774880" y="4971960"/>
                  <a:ext cx="6372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374920" y="429264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394000" y="302904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813040" y="2381400"/>
                  <a:ext cx="63360" cy="63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784680" y="1892160"/>
                  <a:ext cx="6336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3" name=""/>
            <p:cNvSpPr/>
            <p:nvPr/>
          </p:nvSpPr>
          <p:spPr>
            <a:xfrm>
              <a:off x="0" y="6213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hee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971640" y="882720"/>
          <a:ext cx="2838240" cy="4460760"/>
        </p:xfrm>
        <a:graphic>
          <a:graphicData uri="http://schemas.openxmlformats.org/drawingml/2006/table">
            <a:tbl>
              <a:tblPr/>
              <a:tblGrid>
                <a:gridCol w="492120"/>
                <a:gridCol w="974520"/>
                <a:gridCol w="762120"/>
                <a:gridCol w="609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Estimated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ue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438120" y="6134040"/>
            <a:ext cx="35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2 (Ra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838080"/>
            <a:ext cx="609480" cy="579600"/>
          </a:xfrm>
          <a:prstGeom prst="star5">
            <a:avLst/>
          </a:prstGeom>
          <a:gradFill rotWithShape="0">
            <a:gsLst>
              <a:gs pos="0">
                <a:srgbClr val="f8f8f8"/>
              </a:gs>
              <a:gs pos="100000">
                <a:srgbClr val="a3a3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562720" y="914400"/>
          <a:ext cx="2838240" cy="4460760"/>
        </p:xfrm>
        <a:graphic>
          <a:graphicData uri="http://schemas.openxmlformats.org/drawingml/2006/table">
            <a:tbl>
              <a:tblPr/>
              <a:tblGrid>
                <a:gridCol w="492120"/>
                <a:gridCol w="974520"/>
                <a:gridCol w="762120"/>
                <a:gridCol w="609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 Estimated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ue Bea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"/>
          <p:cNvSpPr/>
          <p:nvPr/>
        </p:nvSpPr>
        <p:spPr>
          <a:xfrm>
            <a:off x="5505480" y="870120"/>
            <a:ext cx="609480" cy="579240"/>
          </a:xfrm>
          <a:prstGeom prst="star5">
            <a:avLst/>
          </a:prstGeom>
          <a:gradFill rotWithShape="0">
            <a:gsLst>
              <a:gs pos="0">
                <a:srgbClr val="f8f8f8"/>
              </a:gs>
              <a:gs pos="100000">
                <a:srgbClr val="a3a3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228600" y="236520"/>
            <a:ext cx="7810560" cy="6277320"/>
            <a:chOff x="228600" y="236520"/>
            <a:chExt cx="7810560" cy="6277320"/>
          </a:xfrm>
        </p:grpSpPr>
        <p:sp>
          <p:nvSpPr>
            <p:cNvPr id="630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47840" y="1943280"/>
              <a:ext cx="723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57880" y="182880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14960" y="16048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7160" y="340992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76280" y="33433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91520" y="56293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467480" y="5676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38520" y="40672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81600" y="4019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62680" y="4324320"/>
              <a:ext cx="723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8600" y="6114960"/>
              <a:ext cx="26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heet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457200" y="304920"/>
          <a:ext cx="8381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81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99960" y="228600"/>
            <a:ext cx="8477280" cy="6361560"/>
            <a:chOff x="399960" y="228600"/>
            <a:chExt cx="8477280" cy="6361560"/>
          </a:xfrm>
        </p:grpSpPr>
        <p:sp>
          <p:nvSpPr>
            <p:cNvPr id="647" name=""/>
            <p:cNvSpPr/>
            <p:nvPr/>
          </p:nvSpPr>
          <p:spPr>
            <a:xfrm>
              <a:off x="2057400" y="480060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5744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72160" y="379080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62600" y="37908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9040" y="228600"/>
              <a:ext cx="8400960" cy="76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. Find the position of a point C, if it is on a bearing of 045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A and 29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9960" y="1104840"/>
              <a:ext cx="8477280" cy="79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Find the position of a point D if it is on a bearing of 12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A and 215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from B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24760" y="6191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heet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81280" y="2198520"/>
            <a:ext cx="3000240" cy="30196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282760" y="1865160"/>
            <a:ext cx="3694320" cy="3694320"/>
            <a:chOff x="2282760" y="1865160"/>
            <a:chExt cx="3694320" cy="3694320"/>
          </a:xfrm>
        </p:grpSpPr>
        <p:sp>
          <p:nvSpPr>
            <p:cNvPr id="121" name=""/>
            <p:cNvSpPr/>
            <p:nvPr/>
          </p:nvSpPr>
          <p:spPr>
            <a:xfrm>
              <a:off x="2293920" y="1886040"/>
              <a:ext cx="3673440" cy="36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282760" y="1865160"/>
              <a:ext cx="3694320" cy="3694320"/>
              <a:chOff x="2282760" y="1865160"/>
              <a:chExt cx="3694320" cy="369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2282760" y="3722760"/>
                <a:ext cx="36943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130640" y="1865160"/>
                <a:ext cx="0" cy="36943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3333600" y="236520"/>
            <a:ext cx="1695600" cy="459720"/>
          </a:xfrm>
          <a:prstGeom prst="rect">
            <a:avLst/>
          </a:prstGeom>
          <a:gradFill rotWithShape="0">
            <a:gsLst>
              <a:gs pos="0">
                <a:srgbClr val="8686a8"/>
              </a:gs>
              <a:gs pos="50000">
                <a:srgbClr val="ccccff"/>
              </a:gs>
              <a:gs pos="100000">
                <a:srgbClr val="8686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98400" y="968400"/>
            <a:ext cx="6815160" cy="5400720"/>
            <a:chOff x="698400" y="968400"/>
            <a:chExt cx="6815160" cy="5400720"/>
          </a:xfrm>
        </p:grpSpPr>
        <p:sp>
          <p:nvSpPr>
            <p:cNvPr id="127" name=""/>
            <p:cNvSpPr/>
            <p:nvPr/>
          </p:nvSpPr>
          <p:spPr>
            <a:xfrm>
              <a:off x="3835440" y="146052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35440" y="564048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76800" y="355140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8680" y="3513240"/>
              <a:ext cx="6969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59720" y="3510000"/>
              <a:ext cx="75384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9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4160" y="968400"/>
              <a:ext cx="124920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60/00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400" y="3444840"/>
              <a:ext cx="75420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7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3000" y="6000840"/>
              <a:ext cx="75384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374920" y="1892160"/>
              <a:ext cx="3594240" cy="3594240"/>
              <a:chOff x="2374920" y="1892160"/>
              <a:chExt cx="3594240" cy="3594240"/>
            </a:xfrm>
          </p:grpSpPr>
          <p:sp>
            <p:nvSpPr>
              <p:cNvPr id="136" name=""/>
              <p:cNvSpPr/>
              <p:nvPr/>
            </p:nvSpPr>
            <p:spPr>
              <a:xfrm>
                <a:off x="4724280" y="196200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03960" y="2406600"/>
                <a:ext cx="6336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05440" y="337176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23000" y="433080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78400" y="502272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05200" y="5423040"/>
                <a:ext cx="6372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87800" y="5289480"/>
                <a:ext cx="6336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74880" y="4971960"/>
                <a:ext cx="6372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74920" y="429264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94000" y="302904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13040" y="2381400"/>
                <a:ext cx="6336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84680" y="1892160"/>
                <a:ext cx="6336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100080" y="281160"/>
            <a:ext cx="2395440" cy="1434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A 360</a:t>
            </a:r>
            <a:r>
              <a:rPr b="0" lang="en-US" sz="22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rotractor is used to measure bear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127400" y="1457280"/>
            <a:ext cx="1330560" cy="2257560"/>
            <a:chOff x="4127400" y="1457280"/>
            <a:chExt cx="1330560" cy="2257560"/>
          </a:xfrm>
        </p:grpSpPr>
        <p:sp>
          <p:nvSpPr>
            <p:cNvPr id="150" name=""/>
            <p:cNvSpPr/>
            <p:nvPr/>
          </p:nvSpPr>
          <p:spPr>
            <a:xfrm flipV="1">
              <a:off x="4127400" y="1994040"/>
              <a:ext cx="628920" cy="17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57680" y="1457280"/>
              <a:ext cx="80028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2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108320" y="3041640"/>
            <a:ext cx="2648160" cy="679320"/>
            <a:chOff x="4108320" y="3041640"/>
            <a:chExt cx="2648160" cy="679320"/>
          </a:xfrm>
        </p:grpSpPr>
        <p:sp>
          <p:nvSpPr>
            <p:cNvPr id="153" name=""/>
            <p:cNvSpPr/>
            <p:nvPr/>
          </p:nvSpPr>
          <p:spPr>
            <a:xfrm flipV="1">
              <a:off x="4108320" y="3409920"/>
              <a:ext cx="181620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4080" y="304164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8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14800" y="3714840"/>
            <a:ext cx="2546280" cy="935280"/>
            <a:chOff x="4114800" y="3714840"/>
            <a:chExt cx="2546280" cy="935280"/>
          </a:xfrm>
        </p:grpSpPr>
        <p:sp>
          <p:nvSpPr>
            <p:cNvPr id="156" name=""/>
            <p:cNvSpPr/>
            <p:nvPr/>
          </p:nvSpPr>
          <p:spPr>
            <a:xfrm>
              <a:off x="4114800" y="3714840"/>
              <a:ext cx="1746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08680" y="425124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1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127400" y="3714840"/>
            <a:ext cx="2590920" cy="2183040"/>
            <a:chOff x="4127400" y="3714840"/>
            <a:chExt cx="2590920" cy="2183040"/>
          </a:xfrm>
        </p:grpSpPr>
        <p:sp>
          <p:nvSpPr>
            <p:cNvPr id="159" name=""/>
            <p:cNvSpPr/>
            <p:nvPr/>
          </p:nvSpPr>
          <p:spPr>
            <a:xfrm>
              <a:off x="4127400" y="3714840"/>
              <a:ext cx="1301760" cy="13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9640" y="513252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65920" y="549900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35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27400" y="3714840"/>
            <a:ext cx="1228680" cy="2249640"/>
            <a:chOff x="4127400" y="3714840"/>
            <a:chExt cx="1228680" cy="2249640"/>
          </a:xfrm>
        </p:grpSpPr>
        <p:sp>
          <p:nvSpPr>
            <p:cNvPr id="163" name=""/>
            <p:cNvSpPr/>
            <p:nvPr/>
          </p:nvSpPr>
          <p:spPr>
            <a:xfrm>
              <a:off x="4127400" y="3714840"/>
              <a:ext cx="615960" cy="17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3680" y="556560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16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755800" y="3714840"/>
            <a:ext cx="1359000" cy="2173680"/>
            <a:chOff x="2755800" y="3714840"/>
            <a:chExt cx="1359000" cy="2173680"/>
          </a:xfrm>
        </p:grpSpPr>
        <p:sp>
          <p:nvSpPr>
            <p:cNvPr id="166" name=""/>
            <p:cNvSpPr/>
            <p:nvPr/>
          </p:nvSpPr>
          <p:spPr>
            <a:xfrm flipH="1">
              <a:off x="3206880" y="3714840"/>
              <a:ext cx="90792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55800" y="548964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1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698480" y="3708360"/>
            <a:ext cx="2422440" cy="2094480"/>
            <a:chOff x="1698480" y="3708360"/>
            <a:chExt cx="2422440" cy="2094480"/>
          </a:xfrm>
        </p:grpSpPr>
        <p:sp>
          <p:nvSpPr>
            <p:cNvPr id="169" name=""/>
            <p:cNvSpPr/>
            <p:nvPr/>
          </p:nvSpPr>
          <p:spPr>
            <a:xfrm>
              <a:off x="2144880" y="5051520"/>
              <a:ext cx="60300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800080" y="3708360"/>
              <a:ext cx="1320840" cy="130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8480" y="5403960"/>
              <a:ext cx="75276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25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55920" y="3708360"/>
            <a:ext cx="2565000" cy="894240"/>
            <a:chOff x="1555920" y="3708360"/>
            <a:chExt cx="2565000" cy="894240"/>
          </a:xfrm>
        </p:grpSpPr>
        <p:sp>
          <p:nvSpPr>
            <p:cNvPr id="173" name=""/>
            <p:cNvSpPr/>
            <p:nvPr/>
          </p:nvSpPr>
          <p:spPr>
            <a:xfrm flipH="1">
              <a:off x="2406240" y="3708360"/>
              <a:ext cx="17146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5920" y="420372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574640" y="2727360"/>
            <a:ext cx="2552400" cy="980640"/>
            <a:chOff x="1574640" y="2727360"/>
            <a:chExt cx="2552400" cy="980640"/>
          </a:xfrm>
        </p:grpSpPr>
        <p:sp>
          <p:nvSpPr>
            <p:cNvPr id="176" name=""/>
            <p:cNvSpPr/>
            <p:nvPr/>
          </p:nvSpPr>
          <p:spPr>
            <a:xfrm flipH="1" flipV="1">
              <a:off x="2418840" y="3066840"/>
              <a:ext cx="170820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74640" y="2727360"/>
              <a:ext cx="75276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9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88960" y="1574640"/>
            <a:ext cx="2638440" cy="2146320"/>
            <a:chOff x="1488960" y="1574640"/>
            <a:chExt cx="2638440" cy="2146320"/>
          </a:xfrm>
        </p:grpSpPr>
        <p:sp>
          <p:nvSpPr>
            <p:cNvPr id="179" name=""/>
            <p:cNvSpPr/>
            <p:nvPr/>
          </p:nvSpPr>
          <p:spPr>
            <a:xfrm>
              <a:off x="2181240" y="2009880"/>
              <a:ext cx="60336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N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88960" y="1574640"/>
              <a:ext cx="2638440" cy="2146320"/>
              <a:chOff x="1488960" y="1574640"/>
              <a:chExt cx="2638440" cy="2146320"/>
            </a:xfrm>
          </p:grpSpPr>
          <p:sp>
            <p:nvSpPr>
              <p:cNvPr id="181" name=""/>
              <p:cNvSpPr/>
              <p:nvPr/>
            </p:nvSpPr>
            <p:spPr>
              <a:xfrm flipH="1" flipV="1">
                <a:off x="2838600" y="2400480"/>
                <a:ext cx="1288800" cy="13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88960" y="1574640"/>
                <a:ext cx="752760" cy="398880"/>
              </a:xfrm>
              <a:prstGeom prst="rect">
                <a:avLst/>
              </a:prstGeom>
              <a:gradFill rotWithShape="0">
                <a:gsLst>
                  <a:gs pos="0">
                    <a:srgbClr val="9a9a9a"/>
                  </a:gs>
                  <a:gs pos="50000">
                    <a:srgbClr val="eaeaea"/>
                  </a:gs>
                  <a:gs pos="100000">
                    <a:srgbClr val="9a9a9a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315</a:t>
                </a:r>
                <a:r>
                  <a:rPr b="0" lang="en-US" sz="2000" spc="-1" strike="noStrike" baseline="30000">
                    <a:solidFill>
                      <a:srgbClr val="3333cc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022560" y="1432080"/>
            <a:ext cx="1104840" cy="2282760"/>
            <a:chOff x="3022560" y="1432080"/>
            <a:chExt cx="1104840" cy="2282760"/>
          </a:xfrm>
        </p:grpSpPr>
        <p:sp>
          <p:nvSpPr>
            <p:cNvPr id="184" name=""/>
            <p:cNvSpPr/>
            <p:nvPr/>
          </p:nvSpPr>
          <p:spPr>
            <a:xfrm flipH="1" flipV="1">
              <a:off x="3822840" y="1911240"/>
              <a:ext cx="304560" cy="180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22560" y="143208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35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924520" y="247680"/>
            <a:ext cx="2933640" cy="1618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 your protractor to measure the bearing of each point from the centre of the circle.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Worksheet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14800" y="1644480"/>
            <a:ext cx="2743200" cy="2076480"/>
            <a:chOff x="4114800" y="1644480"/>
            <a:chExt cx="2743200" cy="2076480"/>
          </a:xfrm>
        </p:grpSpPr>
        <p:sp>
          <p:nvSpPr>
            <p:cNvPr id="188" name=""/>
            <p:cNvSpPr/>
            <p:nvPr/>
          </p:nvSpPr>
          <p:spPr>
            <a:xfrm flipV="1">
              <a:off x="4114800" y="2432160"/>
              <a:ext cx="1327320" cy="12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11960" y="2106720"/>
              <a:ext cx="603000" cy="3070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Comic Sans MS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600" y="1644480"/>
              <a:ext cx="752400" cy="39888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45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9960" y="61531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8852040" cy="6860520"/>
            <a:chOff x="0" y="0"/>
            <a:chExt cx="8852040" cy="686052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0" y="4979880"/>
              <a:ext cx="24130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905120" y="941400"/>
              <a:ext cx="5029200" cy="5029200"/>
            </a:xfrm>
            <a:prstGeom prst="ellipse">
              <a:avLst/>
            </a:prstGeom>
            <a:gradFill rotWithShape="0">
              <a:gsLst>
                <a:gs pos="0">
                  <a:srgbClr val="f8bc6c"/>
                </a:gs>
                <a:gs pos="100000">
                  <a:srgbClr val="d4a05c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941400"/>
              <a:ext cx="0" cy="502920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3456000"/>
              <a:ext cx="502920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407880"/>
              <a:ext cx="16002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360/00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91200" y="32274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9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1880" y="59850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8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6880" y="3236760"/>
              <a:ext cx="99036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27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781680" y="4827600"/>
              <a:ext cx="203220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76320" y="331920"/>
              <a:ext cx="3098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6362640" y="274680"/>
              <a:ext cx="24894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43080" y="3295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01000" y="3233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33880" y="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040" y="6400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3400" y="408456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ir Traffic 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4275000"/>
              <a:ext cx="140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trol T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200920" y="1287360"/>
            <a:ext cx="507240" cy="575280"/>
            <a:chOff x="5200920" y="1287360"/>
            <a:chExt cx="507240" cy="575280"/>
          </a:xfrm>
        </p:grpSpPr>
        <p:sp>
          <p:nvSpPr>
            <p:cNvPr id="211" name=""/>
            <p:cNvSpPr/>
            <p:nvPr/>
          </p:nvSpPr>
          <p:spPr>
            <a:xfrm rot="5737200">
              <a:off x="5187960" y="134604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431800">
              <a:off x="5429520" y="152892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256520" y="1165320"/>
            <a:ext cx="1854000" cy="1923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stimate the bearing of each aircraft from the centre of the radar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430880" y="841320"/>
            <a:ext cx="1683720" cy="2608200"/>
            <a:chOff x="4430880" y="841320"/>
            <a:chExt cx="1683720" cy="2608200"/>
          </a:xfrm>
        </p:grpSpPr>
        <p:sp>
          <p:nvSpPr>
            <p:cNvPr id="215" name=""/>
            <p:cNvSpPr/>
            <p:nvPr/>
          </p:nvSpPr>
          <p:spPr>
            <a:xfrm>
              <a:off x="4430880" y="1255680"/>
              <a:ext cx="1207800" cy="2193840"/>
            </a:xfrm>
            <a:custGeom>
              <a:avLst/>
              <a:gdLst/>
              <a:ahLst/>
              <a:rect l="l" t="t" r="r" b="b"/>
              <a:pathLst>
                <a:path w="812" h="1472">
                  <a:moveTo>
                    <a:pt x="0" y="1472"/>
                  </a:move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57600" y="84132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3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969880" y="2624040"/>
            <a:ext cx="620280" cy="562320"/>
            <a:chOff x="5969880" y="2624040"/>
            <a:chExt cx="620280" cy="562320"/>
          </a:xfrm>
        </p:grpSpPr>
        <p:sp>
          <p:nvSpPr>
            <p:cNvPr id="218" name=""/>
            <p:cNvSpPr/>
            <p:nvPr/>
          </p:nvSpPr>
          <p:spPr>
            <a:xfrm rot="11555400">
              <a:off x="6013080" y="267624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8250000">
              <a:off x="6248160" y="28807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421160" y="2619360"/>
            <a:ext cx="2819160" cy="835200"/>
            <a:chOff x="4421160" y="2619360"/>
            <a:chExt cx="2819160" cy="835200"/>
          </a:xfrm>
        </p:grpSpPr>
        <p:sp>
          <p:nvSpPr>
            <p:cNvPr id="221" name=""/>
            <p:cNvSpPr/>
            <p:nvPr/>
          </p:nvSpPr>
          <p:spPr>
            <a:xfrm>
              <a:off x="4421160" y="2762280"/>
              <a:ext cx="2417760" cy="692280"/>
            </a:xfrm>
            <a:custGeom>
              <a:avLst/>
              <a:gdLst/>
              <a:ahLst/>
              <a:rect l="l" t="t" r="r" b="b"/>
              <a:pathLst>
                <a:path w="1523" h="436">
                  <a:moveTo>
                    <a:pt x="0" y="436"/>
                  </a:moveTo>
                  <a:lnTo>
                    <a:pt x="1523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83320" y="261936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7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34720" y="1553040"/>
            <a:ext cx="700560" cy="700560"/>
            <a:chOff x="5634720" y="1553040"/>
            <a:chExt cx="700560" cy="700560"/>
          </a:xfrm>
        </p:grpSpPr>
        <p:sp>
          <p:nvSpPr>
            <p:cNvPr id="224" name=""/>
            <p:cNvSpPr/>
            <p:nvPr/>
          </p:nvSpPr>
          <p:spPr>
            <a:xfrm rot="13495200">
              <a:off x="5717880" y="167472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189800">
              <a:off x="5944680" y="1879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348720" y="4998600"/>
            <a:ext cx="681120" cy="699120"/>
            <a:chOff x="3348720" y="4998600"/>
            <a:chExt cx="681120" cy="699120"/>
          </a:xfrm>
        </p:grpSpPr>
        <p:sp>
          <p:nvSpPr>
            <p:cNvPr id="227" name=""/>
            <p:cNvSpPr/>
            <p:nvPr/>
          </p:nvSpPr>
          <p:spPr>
            <a:xfrm rot="14084400">
              <a:off x="3422520" y="511920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0779000">
              <a:off x="3646440" y="532440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421160" y="1349280"/>
            <a:ext cx="2465280" cy="2108160"/>
            <a:chOff x="4421160" y="1349280"/>
            <a:chExt cx="2465280" cy="2108160"/>
          </a:xfrm>
        </p:grpSpPr>
        <p:sp>
          <p:nvSpPr>
            <p:cNvPr id="230" name=""/>
            <p:cNvSpPr/>
            <p:nvPr/>
          </p:nvSpPr>
          <p:spPr>
            <a:xfrm>
              <a:off x="6229080" y="134928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4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1160" y="1692360"/>
              <a:ext cx="1780920" cy="1765080"/>
            </a:xfrm>
            <a:custGeom>
              <a:avLst/>
              <a:gdLst/>
              <a:ahLst/>
              <a:rect l="l" t="t" r="r" b="b"/>
              <a:pathLst>
                <a:path w="1122" h="1112">
                  <a:moveTo>
                    <a:pt x="0" y="1112"/>
                  </a:moveTo>
                  <a:lnTo>
                    <a:pt x="1122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92320" y="3457440"/>
            <a:ext cx="1426680" cy="2747160"/>
            <a:chOff x="2992320" y="3457440"/>
            <a:chExt cx="1426680" cy="2747160"/>
          </a:xfrm>
        </p:grpSpPr>
        <p:sp>
          <p:nvSpPr>
            <p:cNvPr id="233" name=""/>
            <p:cNvSpPr/>
            <p:nvPr/>
          </p:nvSpPr>
          <p:spPr>
            <a:xfrm>
              <a:off x="2992320" y="586728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0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523680" y="3457440"/>
              <a:ext cx="895320" cy="233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128400" y="1364760"/>
            <a:ext cx="683640" cy="651240"/>
            <a:chOff x="3128400" y="1364760"/>
            <a:chExt cx="683640" cy="651240"/>
          </a:xfrm>
        </p:grpSpPr>
        <p:sp>
          <p:nvSpPr>
            <p:cNvPr id="236" name=""/>
            <p:cNvSpPr/>
            <p:nvPr/>
          </p:nvSpPr>
          <p:spPr>
            <a:xfrm rot="12445800">
              <a:off x="3203280" y="146160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9140400">
              <a:off x="3434760" y="166752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51840" y="4394160"/>
            <a:ext cx="697680" cy="702000"/>
            <a:chOff x="5451840" y="4394160"/>
            <a:chExt cx="697680" cy="702000"/>
          </a:xfrm>
        </p:grpSpPr>
        <p:sp>
          <p:nvSpPr>
            <p:cNvPr id="239" name=""/>
            <p:cNvSpPr/>
            <p:nvPr/>
          </p:nvSpPr>
          <p:spPr>
            <a:xfrm rot="7957800">
              <a:off x="5533560" y="451656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4653000">
              <a:off x="5777640" y="47088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204000" y="3957480"/>
            <a:ext cx="697680" cy="702000"/>
            <a:chOff x="3204000" y="3957480"/>
            <a:chExt cx="697680" cy="702000"/>
          </a:xfrm>
        </p:grpSpPr>
        <p:sp>
          <p:nvSpPr>
            <p:cNvPr id="242" name=""/>
            <p:cNvSpPr/>
            <p:nvPr/>
          </p:nvSpPr>
          <p:spPr>
            <a:xfrm rot="7957800">
              <a:off x="3285720" y="407988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4653000">
              <a:off x="3529800" y="4272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414680" y="3457440"/>
            <a:ext cx="2282760" cy="1858320"/>
            <a:chOff x="4414680" y="3457440"/>
            <a:chExt cx="2282760" cy="1858320"/>
          </a:xfrm>
        </p:grpSpPr>
        <p:sp>
          <p:nvSpPr>
            <p:cNvPr id="245" name=""/>
            <p:cNvSpPr/>
            <p:nvPr/>
          </p:nvSpPr>
          <p:spPr>
            <a:xfrm>
              <a:off x="4414680" y="3457440"/>
              <a:ext cx="1854360" cy="1706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0440" y="497844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3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814480" y="996840"/>
            <a:ext cx="1609200" cy="2455920"/>
            <a:chOff x="2814480" y="996840"/>
            <a:chExt cx="1609200" cy="2455920"/>
          </a:xfrm>
        </p:grpSpPr>
        <p:sp>
          <p:nvSpPr>
            <p:cNvPr id="248" name=""/>
            <p:cNvSpPr/>
            <p:nvPr/>
          </p:nvSpPr>
          <p:spPr>
            <a:xfrm flipH="1" flipV="1">
              <a:off x="3225240" y="1266840"/>
              <a:ext cx="1198440" cy="2185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14480" y="99684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3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130480" y="3452760"/>
            <a:ext cx="2288880" cy="2139120"/>
            <a:chOff x="2130480" y="3452760"/>
            <a:chExt cx="2288880" cy="2139120"/>
          </a:xfrm>
        </p:grpSpPr>
        <p:sp>
          <p:nvSpPr>
            <p:cNvPr id="251" name=""/>
            <p:cNvSpPr/>
            <p:nvPr/>
          </p:nvSpPr>
          <p:spPr>
            <a:xfrm>
              <a:off x="2130480" y="525456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2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657160" y="3452760"/>
              <a:ext cx="1762200" cy="17956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492640" y="2478600"/>
            <a:ext cx="608760" cy="655560"/>
            <a:chOff x="2492640" y="2478600"/>
            <a:chExt cx="608760" cy="655560"/>
          </a:xfrm>
        </p:grpSpPr>
        <p:sp>
          <p:nvSpPr>
            <p:cNvPr id="254" name=""/>
            <p:cNvSpPr/>
            <p:nvPr/>
          </p:nvSpPr>
          <p:spPr>
            <a:xfrm rot="17366400">
              <a:off x="2530080" y="257760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4061000">
              <a:off x="2744640" y="27727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432080" y="2200320"/>
            <a:ext cx="2987640" cy="1261800"/>
            <a:chOff x="1432080" y="2200320"/>
            <a:chExt cx="2987640" cy="1261800"/>
          </a:xfrm>
        </p:grpSpPr>
        <p:sp>
          <p:nvSpPr>
            <p:cNvPr id="257" name=""/>
            <p:cNvSpPr/>
            <p:nvPr/>
          </p:nvSpPr>
          <p:spPr>
            <a:xfrm>
              <a:off x="1432080" y="220032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9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086200" y="2528640"/>
              <a:ext cx="2333520" cy="9334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118480" y="3493440"/>
            <a:ext cx="608760" cy="655200"/>
            <a:chOff x="5118480" y="3493440"/>
            <a:chExt cx="608760" cy="655200"/>
          </a:xfrm>
        </p:grpSpPr>
        <p:sp>
          <p:nvSpPr>
            <p:cNvPr id="260" name=""/>
            <p:cNvSpPr/>
            <p:nvPr/>
          </p:nvSpPr>
          <p:spPr>
            <a:xfrm rot="17366400">
              <a:off x="5155920" y="359244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4061000">
              <a:off x="5370120" y="378756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273760" y="3940920"/>
            <a:ext cx="545400" cy="471600"/>
            <a:chOff x="2273760" y="3940920"/>
            <a:chExt cx="545400" cy="471600"/>
          </a:xfrm>
        </p:grpSpPr>
        <p:sp>
          <p:nvSpPr>
            <p:cNvPr id="263" name=""/>
            <p:cNvSpPr/>
            <p:nvPr/>
          </p:nvSpPr>
          <p:spPr>
            <a:xfrm rot="21508200">
              <a:off x="2279520" y="394776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202800">
              <a:off x="2498760" y="4126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419720" y="3462480"/>
            <a:ext cx="2623680" cy="1004040"/>
            <a:chOff x="4419720" y="3462480"/>
            <a:chExt cx="2623680" cy="1004040"/>
          </a:xfrm>
        </p:grpSpPr>
        <p:sp>
          <p:nvSpPr>
            <p:cNvPr id="266" name=""/>
            <p:cNvSpPr/>
            <p:nvPr/>
          </p:nvSpPr>
          <p:spPr>
            <a:xfrm>
              <a:off x="4419720" y="3462480"/>
              <a:ext cx="2355480" cy="8413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7160" y="4129200"/>
              <a:ext cx="60624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1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50880" y="3457440"/>
            <a:ext cx="2872800" cy="1142280"/>
            <a:chOff x="1550880" y="3457440"/>
            <a:chExt cx="2872800" cy="1142280"/>
          </a:xfrm>
        </p:grpSpPr>
        <p:sp>
          <p:nvSpPr>
            <p:cNvPr id="269" name=""/>
            <p:cNvSpPr/>
            <p:nvPr/>
          </p:nvSpPr>
          <p:spPr>
            <a:xfrm flipH="1">
              <a:off x="2007720" y="3457440"/>
              <a:ext cx="2415960" cy="89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50880" y="4262400"/>
              <a:ext cx="65700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62920" y="1746720"/>
            <a:ext cx="535320" cy="459720"/>
            <a:chOff x="2662920" y="1746720"/>
            <a:chExt cx="535320" cy="459720"/>
          </a:xfrm>
        </p:grpSpPr>
        <p:sp>
          <p:nvSpPr>
            <p:cNvPr id="272" name=""/>
            <p:cNvSpPr/>
            <p:nvPr/>
          </p:nvSpPr>
          <p:spPr>
            <a:xfrm rot="21583800">
              <a:off x="2663640" y="1747800"/>
              <a:ext cx="53316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278400">
              <a:off x="2882880" y="192600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354920" y="5042160"/>
            <a:ext cx="535680" cy="459720"/>
            <a:chOff x="4354920" y="5042160"/>
            <a:chExt cx="535680" cy="459720"/>
          </a:xfrm>
        </p:grpSpPr>
        <p:sp>
          <p:nvSpPr>
            <p:cNvPr id="275" name=""/>
            <p:cNvSpPr/>
            <p:nvPr/>
          </p:nvSpPr>
          <p:spPr>
            <a:xfrm rot="21583800">
              <a:off x="4355640" y="5043240"/>
              <a:ext cx="533520" cy="457200"/>
            </a:xfrm>
            <a:custGeom>
              <a:avLst/>
              <a:gdLst/>
              <a:ahLst/>
              <a:rect l="l" t="t" r="r" b="b"/>
              <a:pathLst>
                <a:path w="3438" h="3493">
                  <a:moveTo>
                    <a:pt x="1912" y="2916"/>
                  </a:moveTo>
                  <a:lnTo>
                    <a:pt x="1912" y="2045"/>
                  </a:lnTo>
                  <a:lnTo>
                    <a:pt x="3438" y="2597"/>
                  </a:lnTo>
                  <a:lnTo>
                    <a:pt x="3438" y="2161"/>
                  </a:lnTo>
                  <a:lnTo>
                    <a:pt x="1912" y="1276"/>
                  </a:lnTo>
                  <a:lnTo>
                    <a:pt x="1912" y="200"/>
                  </a:lnTo>
                  <a:lnTo>
                    <a:pt x="1907" y="159"/>
                  </a:lnTo>
                  <a:lnTo>
                    <a:pt x="1896" y="122"/>
                  </a:lnTo>
                  <a:lnTo>
                    <a:pt x="1876" y="88"/>
                  </a:lnTo>
                  <a:lnTo>
                    <a:pt x="1853" y="58"/>
                  </a:lnTo>
                  <a:lnTo>
                    <a:pt x="1822" y="33"/>
                  </a:lnTo>
                  <a:lnTo>
                    <a:pt x="1789" y="15"/>
                  </a:lnTo>
                  <a:lnTo>
                    <a:pt x="1753" y="4"/>
                  </a:lnTo>
                  <a:lnTo>
                    <a:pt x="1713" y="0"/>
                  </a:lnTo>
                  <a:lnTo>
                    <a:pt x="1672" y="4"/>
                  </a:lnTo>
                  <a:lnTo>
                    <a:pt x="1635" y="15"/>
                  </a:lnTo>
                  <a:lnTo>
                    <a:pt x="1601" y="33"/>
                  </a:lnTo>
                  <a:lnTo>
                    <a:pt x="1571" y="58"/>
                  </a:lnTo>
                  <a:lnTo>
                    <a:pt x="1546" y="88"/>
                  </a:lnTo>
                  <a:lnTo>
                    <a:pt x="1528" y="122"/>
                  </a:lnTo>
                  <a:lnTo>
                    <a:pt x="1517" y="159"/>
                  </a:lnTo>
                  <a:lnTo>
                    <a:pt x="1513" y="200"/>
                  </a:lnTo>
                  <a:lnTo>
                    <a:pt x="1513" y="1286"/>
                  </a:lnTo>
                  <a:lnTo>
                    <a:pt x="0" y="2167"/>
                  </a:lnTo>
                  <a:lnTo>
                    <a:pt x="0" y="2597"/>
                  </a:lnTo>
                  <a:lnTo>
                    <a:pt x="1513" y="2054"/>
                  </a:lnTo>
                  <a:lnTo>
                    <a:pt x="1513" y="2927"/>
                  </a:lnTo>
                  <a:lnTo>
                    <a:pt x="1196" y="3163"/>
                  </a:lnTo>
                  <a:lnTo>
                    <a:pt x="1196" y="3493"/>
                  </a:lnTo>
                  <a:lnTo>
                    <a:pt x="1713" y="3328"/>
                  </a:lnTo>
                  <a:lnTo>
                    <a:pt x="2279" y="3487"/>
                  </a:lnTo>
                  <a:lnTo>
                    <a:pt x="2279" y="3194"/>
                  </a:lnTo>
                  <a:lnTo>
                    <a:pt x="1912" y="2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278400">
              <a:off x="4575600" y="522180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75040" y="1379520"/>
            <a:ext cx="2352240" cy="2081160"/>
            <a:chOff x="2075040" y="1379520"/>
            <a:chExt cx="2352240" cy="2081160"/>
          </a:xfrm>
        </p:grpSpPr>
        <p:sp>
          <p:nvSpPr>
            <p:cNvPr id="278" name=""/>
            <p:cNvSpPr/>
            <p:nvPr/>
          </p:nvSpPr>
          <p:spPr>
            <a:xfrm flipH="1" flipV="1">
              <a:off x="2649240" y="1701720"/>
              <a:ext cx="1778040" cy="1758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5040" y="137952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1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14680" y="3457440"/>
            <a:ext cx="720720" cy="2490840"/>
            <a:chOff x="4414680" y="3457440"/>
            <a:chExt cx="720720" cy="2490840"/>
          </a:xfrm>
        </p:grpSpPr>
        <p:sp>
          <p:nvSpPr>
            <p:cNvPr id="281" name=""/>
            <p:cNvSpPr/>
            <p:nvPr/>
          </p:nvSpPr>
          <p:spPr>
            <a:xfrm>
              <a:off x="4414680" y="3457440"/>
              <a:ext cx="281160" cy="24908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78040" y="5570640"/>
              <a:ext cx="657360" cy="3373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7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8852040" cy="6860520"/>
            <a:chOff x="0" y="0"/>
            <a:chExt cx="8852040" cy="686052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0" y="4979880"/>
              <a:ext cx="241308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905120" y="941400"/>
              <a:ext cx="5029200" cy="5029200"/>
            </a:xfrm>
            <a:prstGeom prst="ellipse">
              <a:avLst/>
            </a:prstGeom>
            <a:gradFill rotWithShape="0">
              <a:gsLst>
                <a:gs pos="0">
                  <a:srgbClr val="02d297"/>
                </a:gs>
                <a:gs pos="100000">
                  <a:srgbClr val="019f72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f8b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905120" y="941400"/>
              <a:ext cx="5029200" cy="5029200"/>
              <a:chOff x="1905120" y="941400"/>
              <a:chExt cx="5029200" cy="5029200"/>
            </a:xfrm>
          </p:grpSpPr>
          <p:sp>
            <p:nvSpPr>
              <p:cNvPr id="287" name=""/>
              <p:cNvSpPr/>
              <p:nvPr/>
            </p:nvSpPr>
            <p:spPr>
              <a:xfrm>
                <a:off x="4419720" y="941400"/>
                <a:ext cx="0" cy="502920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56000"/>
                <a:ext cx="5029200" cy="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3581280" y="407880"/>
              <a:ext cx="160020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360/00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91200" y="32274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09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1880" y="5985000"/>
              <a:ext cx="99072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8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6880" y="3236760"/>
              <a:ext cx="990360" cy="45972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270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6781680" y="4827600"/>
              <a:ext cx="203220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76320" y="331920"/>
              <a:ext cx="309852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6362640" y="274680"/>
              <a:ext cx="24894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43080" y="3295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01000" y="3233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33880" y="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53040" y="6400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53400" y="408456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Air Traffic 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4000" y="4275000"/>
              <a:ext cx="140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trol T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948320" y="981000"/>
            <a:ext cx="4986000" cy="4642560"/>
            <a:chOff x="1948320" y="981000"/>
            <a:chExt cx="4986000" cy="4642560"/>
          </a:xfrm>
        </p:grpSpPr>
        <p:grpSp>
          <p:nvGrpSpPr>
            <p:cNvPr id="303" name=""/>
            <p:cNvGrpSpPr/>
            <p:nvPr/>
          </p:nvGrpSpPr>
          <p:grpSpPr>
            <a:xfrm>
              <a:off x="5354640" y="1490760"/>
              <a:ext cx="658440" cy="723960"/>
              <a:chOff x="5354640" y="1490760"/>
              <a:chExt cx="658440" cy="7239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354640" y="1600920"/>
                <a:ext cx="658440" cy="613800"/>
                <a:chOff x="5354640" y="1600920"/>
                <a:chExt cx="658440" cy="613800"/>
              </a:xfrm>
            </p:grpSpPr>
            <p:sp>
              <p:nvSpPr>
                <p:cNvPr id="305" name=""/>
                <p:cNvSpPr/>
                <p:nvPr/>
              </p:nvSpPr>
              <p:spPr>
                <a:xfrm rot="1217400">
                  <a:off x="5416920" y="16790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9512000">
                  <a:off x="5650200" y="186084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5364000" y="1490760"/>
                <a:ext cx="29556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280200" y="2838600"/>
              <a:ext cx="654120" cy="930240"/>
              <a:chOff x="6280200" y="2838600"/>
              <a:chExt cx="654120" cy="930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80200" y="3161160"/>
                <a:ext cx="654120" cy="607680"/>
                <a:chOff x="6280200" y="3161160"/>
                <a:chExt cx="654120" cy="607680"/>
              </a:xfrm>
            </p:grpSpPr>
            <p:sp>
              <p:nvSpPr>
                <p:cNvPr id="310" name=""/>
                <p:cNvSpPr/>
                <p:nvPr/>
              </p:nvSpPr>
              <p:spPr>
                <a:xfrm rot="20444400">
                  <a:off x="6340680" y="323640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7137800">
                  <a:off x="6566760" y="34171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6421320" y="2838600"/>
                <a:ext cx="33336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768920" y="2400480"/>
              <a:ext cx="875880" cy="846360"/>
              <a:chOff x="4768920" y="2400480"/>
              <a:chExt cx="875880" cy="846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4987440" y="2559240"/>
                <a:ext cx="657360" cy="687600"/>
                <a:chOff x="4987440" y="2559240"/>
                <a:chExt cx="657360" cy="687600"/>
              </a:xfrm>
            </p:grpSpPr>
            <p:sp>
              <p:nvSpPr>
                <p:cNvPr id="315" name=""/>
                <p:cNvSpPr/>
                <p:nvPr/>
              </p:nvSpPr>
              <p:spPr>
                <a:xfrm rot="14472000">
                  <a:off x="5049360" y="26744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1166000">
                  <a:off x="5268240" y="28684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4768920" y="2400480"/>
                <a:ext cx="43812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303720" y="3641760"/>
              <a:ext cx="672840" cy="905760"/>
              <a:chOff x="3303720" y="3641760"/>
              <a:chExt cx="672840" cy="9057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303720" y="3641760"/>
                <a:ext cx="672840" cy="695520"/>
                <a:chOff x="3303720" y="3641760"/>
                <a:chExt cx="672840" cy="695520"/>
              </a:xfrm>
            </p:grpSpPr>
            <p:sp>
              <p:nvSpPr>
                <p:cNvPr id="320" name=""/>
                <p:cNvSpPr/>
                <p:nvPr/>
              </p:nvSpPr>
              <p:spPr>
                <a:xfrm rot="7363200">
                  <a:off x="3373200" y="376056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4057200">
                  <a:off x="3609360" y="39574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3501720" y="4210200"/>
                <a:ext cx="45720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523040" y="4034520"/>
              <a:ext cx="893520" cy="709560"/>
              <a:chOff x="4523040" y="4034520"/>
              <a:chExt cx="893520" cy="70956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523040" y="4034520"/>
                <a:ext cx="654120" cy="607680"/>
                <a:chOff x="4523040" y="4034520"/>
                <a:chExt cx="654120" cy="607680"/>
              </a:xfrm>
            </p:grpSpPr>
            <p:sp>
              <p:nvSpPr>
                <p:cNvPr id="325" name=""/>
                <p:cNvSpPr/>
                <p:nvPr/>
              </p:nvSpPr>
              <p:spPr>
                <a:xfrm rot="20444400">
                  <a:off x="4583520" y="410976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7137800">
                  <a:off x="4809600" y="42901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5054760" y="4406760"/>
                <a:ext cx="36180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66320" y="1332720"/>
              <a:ext cx="842040" cy="691560"/>
              <a:chOff x="2866320" y="1332720"/>
              <a:chExt cx="842040" cy="6915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866320" y="1332720"/>
                <a:ext cx="665280" cy="691560"/>
                <a:chOff x="2866320" y="1332720"/>
                <a:chExt cx="665280" cy="691560"/>
              </a:xfrm>
            </p:grpSpPr>
            <p:sp>
              <p:nvSpPr>
                <p:cNvPr id="330" name=""/>
                <p:cNvSpPr/>
                <p:nvPr/>
              </p:nvSpPr>
              <p:spPr>
                <a:xfrm rot="7242000">
                  <a:off x="2932200" y="144972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3936600">
                  <a:off x="3168720" y="16462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3346560" y="1403280"/>
                <a:ext cx="36180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948320" y="2511360"/>
              <a:ext cx="698040" cy="872280"/>
              <a:chOff x="1948320" y="2511360"/>
              <a:chExt cx="698040" cy="8722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1948320" y="2682000"/>
                <a:ext cx="698040" cy="701640"/>
                <a:chOff x="1948320" y="2682000"/>
                <a:chExt cx="698040" cy="701640"/>
              </a:xfrm>
            </p:grpSpPr>
            <p:sp>
              <p:nvSpPr>
                <p:cNvPr id="335" name=""/>
                <p:cNvSpPr/>
                <p:nvPr/>
              </p:nvSpPr>
              <p:spPr>
                <a:xfrm rot="18777600">
                  <a:off x="2030400" y="28040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5472200">
                  <a:off x="2252520" y="29872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2149560" y="2511360"/>
                <a:ext cx="38088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762280" y="2218320"/>
              <a:ext cx="957600" cy="607680"/>
              <a:chOff x="2762280" y="2218320"/>
              <a:chExt cx="957600" cy="6076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065760" y="2218320"/>
                <a:ext cx="654120" cy="607680"/>
                <a:chOff x="3065760" y="2218320"/>
                <a:chExt cx="654120" cy="607680"/>
              </a:xfrm>
            </p:grpSpPr>
            <p:sp>
              <p:nvSpPr>
                <p:cNvPr id="340" name=""/>
                <p:cNvSpPr/>
                <p:nvPr/>
              </p:nvSpPr>
              <p:spPr>
                <a:xfrm rot="20444400">
                  <a:off x="3126240" y="229356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7137800">
                  <a:off x="3352320" y="24739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2762280" y="2292480"/>
                <a:ext cx="371520" cy="27648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282920" y="981000"/>
              <a:ext cx="802080" cy="657360"/>
              <a:chOff x="4282920" y="981000"/>
              <a:chExt cx="802080" cy="6573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4430880" y="1030680"/>
                <a:ext cx="654120" cy="607680"/>
                <a:chOff x="4430880" y="1030680"/>
                <a:chExt cx="654120" cy="607680"/>
              </a:xfrm>
            </p:grpSpPr>
            <p:sp>
              <p:nvSpPr>
                <p:cNvPr id="345" name=""/>
                <p:cNvSpPr/>
                <p:nvPr/>
              </p:nvSpPr>
              <p:spPr>
                <a:xfrm rot="20444400">
                  <a:off x="4491360" y="110592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7137800">
                  <a:off x="4717440" y="128664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4282920" y="981000"/>
                <a:ext cx="35244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352680" y="4981680"/>
              <a:ext cx="832320" cy="641880"/>
              <a:chOff x="3352680" y="4981680"/>
              <a:chExt cx="832320" cy="64188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3579120" y="5078880"/>
                <a:ext cx="605880" cy="544680"/>
                <a:chOff x="3579120" y="5078880"/>
                <a:chExt cx="605880" cy="544680"/>
              </a:xfrm>
            </p:grpSpPr>
            <p:sp>
              <p:nvSpPr>
                <p:cNvPr id="350" name=""/>
                <p:cNvSpPr/>
                <p:nvPr/>
              </p:nvSpPr>
              <p:spPr>
                <a:xfrm rot="614400">
                  <a:off x="3615480" y="51224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908400">
                  <a:off x="3846600" y="530352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352680" y="4981680"/>
                <a:ext cx="37152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826960" y="4029120"/>
              <a:ext cx="789840" cy="734040"/>
              <a:chOff x="5826960" y="4029120"/>
              <a:chExt cx="789840" cy="73404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5826960" y="4186440"/>
                <a:ext cx="631080" cy="576720"/>
                <a:chOff x="5826960" y="4186440"/>
                <a:chExt cx="631080" cy="576720"/>
              </a:xfrm>
            </p:grpSpPr>
            <p:sp>
              <p:nvSpPr>
                <p:cNvPr id="355" name=""/>
                <p:cNvSpPr/>
                <p:nvPr/>
              </p:nvSpPr>
              <p:spPr>
                <a:xfrm rot="875400">
                  <a:off x="5875920" y="424620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9170000">
                  <a:off x="6107760" y="442728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64360" y="4029120"/>
                <a:ext cx="35244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120760" y="3743280"/>
              <a:ext cx="770760" cy="707760"/>
              <a:chOff x="2120760" y="3743280"/>
              <a:chExt cx="770760" cy="70776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2330280" y="3831840"/>
                <a:ext cx="561240" cy="619200"/>
                <a:chOff x="2330280" y="3831840"/>
                <a:chExt cx="561240" cy="619200"/>
              </a:xfrm>
            </p:grpSpPr>
            <p:sp>
              <p:nvSpPr>
                <p:cNvPr id="360" name=""/>
                <p:cNvSpPr/>
                <p:nvPr/>
              </p:nvSpPr>
              <p:spPr>
                <a:xfrm rot="15454200">
                  <a:off x="2344320" y="3912840"/>
                  <a:ext cx="533160" cy="457200"/>
                </a:xfrm>
                <a:custGeom>
                  <a:avLst/>
                  <a:gdLst/>
                  <a:ahLst/>
                  <a:rect l="l" t="t" r="r" b="b"/>
                  <a:pathLst>
                    <a:path w="3438" h="3493">
                      <a:moveTo>
                        <a:pt x="1912" y="2916"/>
                      </a:moveTo>
                      <a:lnTo>
                        <a:pt x="1912" y="2045"/>
                      </a:lnTo>
                      <a:lnTo>
                        <a:pt x="3438" y="2597"/>
                      </a:lnTo>
                      <a:lnTo>
                        <a:pt x="3438" y="2161"/>
                      </a:lnTo>
                      <a:lnTo>
                        <a:pt x="1912" y="1276"/>
                      </a:lnTo>
                      <a:lnTo>
                        <a:pt x="1912" y="200"/>
                      </a:lnTo>
                      <a:lnTo>
                        <a:pt x="1907" y="159"/>
                      </a:lnTo>
                      <a:lnTo>
                        <a:pt x="1896" y="122"/>
                      </a:lnTo>
                      <a:lnTo>
                        <a:pt x="1876" y="88"/>
                      </a:lnTo>
                      <a:lnTo>
                        <a:pt x="1853" y="58"/>
                      </a:lnTo>
                      <a:lnTo>
                        <a:pt x="1822" y="33"/>
                      </a:lnTo>
                      <a:lnTo>
                        <a:pt x="1789" y="15"/>
                      </a:lnTo>
                      <a:lnTo>
                        <a:pt x="1753" y="4"/>
                      </a:lnTo>
                      <a:lnTo>
                        <a:pt x="1713" y="0"/>
                      </a:lnTo>
                      <a:lnTo>
                        <a:pt x="1672" y="4"/>
                      </a:lnTo>
                      <a:lnTo>
                        <a:pt x="1635" y="15"/>
                      </a:lnTo>
                      <a:lnTo>
                        <a:pt x="1601" y="33"/>
                      </a:lnTo>
                      <a:lnTo>
                        <a:pt x="1571" y="58"/>
                      </a:lnTo>
                      <a:lnTo>
                        <a:pt x="1546" y="88"/>
                      </a:lnTo>
                      <a:lnTo>
                        <a:pt x="1528" y="122"/>
                      </a:lnTo>
                      <a:lnTo>
                        <a:pt x="1517" y="159"/>
                      </a:lnTo>
                      <a:lnTo>
                        <a:pt x="1513" y="200"/>
                      </a:lnTo>
                      <a:lnTo>
                        <a:pt x="1513" y="1286"/>
                      </a:lnTo>
                      <a:lnTo>
                        <a:pt x="0" y="2167"/>
                      </a:lnTo>
                      <a:lnTo>
                        <a:pt x="0" y="2597"/>
                      </a:lnTo>
                      <a:lnTo>
                        <a:pt x="1513" y="2054"/>
                      </a:lnTo>
                      <a:lnTo>
                        <a:pt x="1513" y="2927"/>
                      </a:lnTo>
                      <a:lnTo>
                        <a:pt x="1196" y="3163"/>
                      </a:lnTo>
                      <a:lnTo>
                        <a:pt x="1196" y="3493"/>
                      </a:lnTo>
                      <a:lnTo>
                        <a:pt x="1713" y="3328"/>
                      </a:lnTo>
                      <a:lnTo>
                        <a:pt x="2279" y="3487"/>
                      </a:lnTo>
                      <a:lnTo>
                        <a:pt x="2279" y="3194"/>
                      </a:lnTo>
                      <a:lnTo>
                        <a:pt x="1912" y="2916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2148200">
                  <a:off x="2562840" y="4104000"/>
                  <a:ext cx="76320" cy="7632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2120760" y="3743280"/>
                <a:ext cx="362160" cy="33732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4425840" y="1114560"/>
            <a:ext cx="2098800" cy="2342880"/>
            <a:chOff x="4425840" y="1114560"/>
            <a:chExt cx="2098800" cy="2342880"/>
          </a:xfrm>
        </p:grpSpPr>
        <p:sp>
          <p:nvSpPr>
            <p:cNvPr id="364" name=""/>
            <p:cNvSpPr/>
            <p:nvPr/>
          </p:nvSpPr>
          <p:spPr>
            <a:xfrm flipV="1">
              <a:off x="4425840" y="1486080"/>
              <a:ext cx="1590840" cy="19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8200" y="111456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4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574640" y="3448080"/>
            <a:ext cx="2845080" cy="1073880"/>
            <a:chOff x="1574640" y="3448080"/>
            <a:chExt cx="2845080" cy="1073880"/>
          </a:xfrm>
        </p:grpSpPr>
        <p:sp>
          <p:nvSpPr>
            <p:cNvPr id="367" name=""/>
            <p:cNvSpPr/>
            <p:nvPr/>
          </p:nvSpPr>
          <p:spPr>
            <a:xfrm flipH="1">
              <a:off x="2120760" y="3448080"/>
              <a:ext cx="2298960" cy="869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74640" y="418464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27320" y="2724120"/>
            <a:ext cx="3085920" cy="723600"/>
            <a:chOff x="1327320" y="2724120"/>
            <a:chExt cx="3085920" cy="723600"/>
          </a:xfrm>
        </p:grpSpPr>
        <p:sp>
          <p:nvSpPr>
            <p:cNvPr id="370" name=""/>
            <p:cNvSpPr/>
            <p:nvPr/>
          </p:nvSpPr>
          <p:spPr>
            <a:xfrm flipH="1" flipV="1">
              <a:off x="2025720" y="2964960"/>
              <a:ext cx="2387520" cy="482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27320" y="272412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8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413240" y="3454560"/>
            <a:ext cx="2457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13240" y="3448080"/>
            <a:ext cx="2771640" cy="1340640"/>
            <a:chOff x="4413240" y="3448080"/>
            <a:chExt cx="2771640" cy="1340640"/>
          </a:xfrm>
        </p:grpSpPr>
        <p:sp>
          <p:nvSpPr>
            <p:cNvPr id="374" name=""/>
            <p:cNvSpPr/>
            <p:nvPr/>
          </p:nvSpPr>
          <p:spPr>
            <a:xfrm>
              <a:off x="4413240" y="3448080"/>
              <a:ext cx="2133720" cy="1251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08800" y="445140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2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971800" y="3448080"/>
            <a:ext cx="1441440" cy="2585160"/>
            <a:chOff x="2971800" y="3448080"/>
            <a:chExt cx="1441440" cy="2585160"/>
          </a:xfrm>
        </p:grpSpPr>
        <p:sp>
          <p:nvSpPr>
            <p:cNvPr id="377" name=""/>
            <p:cNvSpPr/>
            <p:nvPr/>
          </p:nvSpPr>
          <p:spPr>
            <a:xfrm>
              <a:off x="3746520" y="3448080"/>
              <a:ext cx="666720" cy="2374920"/>
            </a:xfrm>
            <a:custGeom>
              <a:avLst/>
              <a:gdLst/>
              <a:ahLst/>
              <a:rect l="l" t="t" r="r" b="b"/>
              <a:pathLst>
                <a:path w="420" h="1496">
                  <a:moveTo>
                    <a:pt x="420" y="0"/>
                  </a:moveTo>
                  <a:lnTo>
                    <a:pt x="0" y="1496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71800" y="569592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9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413240" y="841320"/>
            <a:ext cx="1076400" cy="2613240"/>
            <a:chOff x="4413240" y="841320"/>
            <a:chExt cx="1076400" cy="2613240"/>
          </a:xfrm>
        </p:grpSpPr>
        <p:sp>
          <p:nvSpPr>
            <p:cNvPr id="380" name=""/>
            <p:cNvSpPr/>
            <p:nvPr/>
          </p:nvSpPr>
          <p:spPr>
            <a:xfrm flipV="1">
              <a:off x="4413240" y="1022400"/>
              <a:ext cx="393840" cy="2432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13200" y="84132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1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03520" y="987480"/>
            <a:ext cx="1816200" cy="2467080"/>
            <a:chOff x="2603520" y="987480"/>
            <a:chExt cx="1816200" cy="2467080"/>
          </a:xfrm>
        </p:grpSpPr>
        <p:sp>
          <p:nvSpPr>
            <p:cNvPr id="383" name=""/>
            <p:cNvSpPr/>
            <p:nvPr/>
          </p:nvSpPr>
          <p:spPr>
            <a:xfrm>
              <a:off x="2603520" y="98748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2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29040" y="1422360"/>
              <a:ext cx="1390680" cy="2032200"/>
            </a:xfrm>
            <a:custGeom>
              <a:avLst/>
              <a:gdLst/>
              <a:ahLst/>
              <a:rect l="l" t="t" r="r" b="b"/>
              <a:pathLst>
                <a:path w="876" h="1280">
                  <a:moveTo>
                    <a:pt x="876" y="128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13240" y="3448080"/>
            <a:ext cx="1768320" cy="2591640"/>
            <a:chOff x="4413240" y="3448080"/>
            <a:chExt cx="1768320" cy="2591640"/>
          </a:xfrm>
        </p:grpSpPr>
        <p:sp>
          <p:nvSpPr>
            <p:cNvPr id="386" name=""/>
            <p:cNvSpPr/>
            <p:nvPr/>
          </p:nvSpPr>
          <p:spPr>
            <a:xfrm>
              <a:off x="5505480" y="5702400"/>
              <a:ext cx="67608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15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13240" y="3448080"/>
              <a:ext cx="1098720" cy="2228760"/>
            </a:xfrm>
            <a:custGeom>
              <a:avLst/>
              <a:gdLst/>
              <a:ahLst/>
              <a:rect l="l" t="t" r="r" b="b"/>
              <a:pathLst>
                <a:path w="692" h="1404">
                  <a:moveTo>
                    <a:pt x="0" y="0"/>
                  </a:moveTo>
                  <a:lnTo>
                    <a:pt x="692" y="140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701720" y="3454560"/>
            <a:ext cx="2717640" cy="1715040"/>
            <a:chOff x="1701720" y="3454560"/>
            <a:chExt cx="2717640" cy="1715040"/>
          </a:xfrm>
        </p:grpSpPr>
        <p:sp>
          <p:nvSpPr>
            <p:cNvPr id="389" name=""/>
            <p:cNvSpPr/>
            <p:nvPr/>
          </p:nvSpPr>
          <p:spPr>
            <a:xfrm flipH="1">
              <a:off x="2387160" y="3454560"/>
              <a:ext cx="2032200" cy="1409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1720" y="483228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235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11240" y="1460520"/>
            <a:ext cx="2501640" cy="2000160"/>
            <a:chOff x="1911240" y="1460520"/>
            <a:chExt cx="2501640" cy="2000160"/>
          </a:xfrm>
        </p:grpSpPr>
        <p:sp>
          <p:nvSpPr>
            <p:cNvPr id="392" name=""/>
            <p:cNvSpPr/>
            <p:nvPr/>
          </p:nvSpPr>
          <p:spPr>
            <a:xfrm flipH="1" flipV="1">
              <a:off x="2596680" y="1778040"/>
              <a:ext cx="1816200" cy="1682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11240" y="146052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31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406760" y="1860480"/>
            <a:ext cx="2581560" cy="1594080"/>
            <a:chOff x="4406760" y="1860480"/>
            <a:chExt cx="2581560" cy="1594080"/>
          </a:xfrm>
        </p:grpSpPr>
        <p:sp>
          <p:nvSpPr>
            <p:cNvPr id="395" name=""/>
            <p:cNvSpPr/>
            <p:nvPr/>
          </p:nvSpPr>
          <p:spPr>
            <a:xfrm>
              <a:off x="6311880" y="1860480"/>
              <a:ext cx="676440" cy="3373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5000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060</a:t>
              </a:r>
              <a:r>
                <a:rPr b="0" lang="en-US" sz="16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406760" y="2184480"/>
              <a:ext cx="2102040" cy="1270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991040" y="61531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1165320"/>
            <a:ext cx="9110520" cy="1923480"/>
            <a:chOff x="0" y="1165320"/>
            <a:chExt cx="9110520" cy="1923480"/>
          </a:xfrm>
        </p:grpSpPr>
        <p:sp>
          <p:nvSpPr>
            <p:cNvPr id="399" name=""/>
            <p:cNvSpPr/>
            <p:nvPr/>
          </p:nvSpPr>
          <p:spPr>
            <a:xfrm>
              <a:off x="7256520" y="1165320"/>
              <a:ext cx="1854000" cy="1923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Estimate the bearing of each aircraft from the centre of the radar scre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0" y="1371600"/>
              <a:ext cx="1752480" cy="1665360"/>
              <a:chOff x="0" y="1371600"/>
              <a:chExt cx="1752480" cy="166536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1371600"/>
                <a:ext cx="1752480" cy="1665360"/>
              </a:xfrm>
              <a:prstGeom prst="star5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bbbbb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0880" y="1820880"/>
                <a:ext cx="99072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Control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cont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992160" y="3652920"/>
            <a:ext cx="3000240" cy="301932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05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00560" y="50864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09920" y="565776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48000" y="621972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th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104920" y="3222720"/>
            <a:ext cx="628560" cy="1866240"/>
            <a:chOff x="2104920" y="3222720"/>
            <a:chExt cx="628560" cy="1866240"/>
          </a:xfrm>
        </p:grpSpPr>
        <p:sp>
          <p:nvSpPr>
            <p:cNvPr id="411" name=""/>
            <p:cNvSpPr/>
            <p:nvPr/>
          </p:nvSpPr>
          <p:spPr>
            <a:xfrm flipV="1">
              <a:off x="2448000" y="3736440"/>
              <a:ext cx="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4920" y="3222720"/>
              <a:ext cx="62856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454120" y="372420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184720" y="2898720"/>
            <a:ext cx="79380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6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76120" y="1590840"/>
            <a:ext cx="5762880" cy="4012560"/>
            <a:chOff x="276120" y="1590840"/>
            <a:chExt cx="5762880" cy="4012560"/>
          </a:xfrm>
        </p:grpSpPr>
        <p:sp>
          <p:nvSpPr>
            <p:cNvPr id="416" name=""/>
            <p:cNvSpPr/>
            <p:nvPr/>
          </p:nvSpPr>
          <p:spPr>
            <a:xfrm>
              <a:off x="276120" y="159084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B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67320" y="3562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19800" y="3433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66960" y="51436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86080" y="5076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 flipV="1">
            <a:off x="2448000" y="3495240"/>
            <a:ext cx="303840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030560" y="1959120"/>
            <a:ext cx="3000600" cy="30193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25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400560" y="50864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09920" y="565776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621972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133960" y="1565280"/>
            <a:ext cx="628560" cy="1866240"/>
            <a:chOff x="5133960" y="1565280"/>
            <a:chExt cx="628560" cy="1866240"/>
          </a:xfrm>
        </p:grpSpPr>
        <p:sp>
          <p:nvSpPr>
            <p:cNvPr id="431" name=""/>
            <p:cNvSpPr/>
            <p:nvPr/>
          </p:nvSpPr>
          <p:spPr>
            <a:xfrm flipV="1">
              <a:off x="5477040" y="2079000"/>
              <a:ext cx="0" cy="13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33960" y="1565280"/>
              <a:ext cx="62856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483160" y="206676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127160" y="5442120"/>
            <a:ext cx="79380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40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76120" y="1590840"/>
            <a:ext cx="5762880" cy="4012560"/>
            <a:chOff x="276120" y="1590840"/>
            <a:chExt cx="5762880" cy="4012560"/>
          </a:xfrm>
        </p:grpSpPr>
        <p:sp>
          <p:nvSpPr>
            <p:cNvPr id="436" name=""/>
            <p:cNvSpPr/>
            <p:nvPr/>
          </p:nvSpPr>
          <p:spPr>
            <a:xfrm>
              <a:off x="276120" y="159084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A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67320" y="3562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19800" y="3433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66960" y="51436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6080" y="5076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V="1">
            <a:off x="2448000" y="3495240"/>
            <a:ext cx="3038400" cy="163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933480" y="236520"/>
            <a:ext cx="7543800" cy="5469480"/>
            <a:chOff x="933480" y="236520"/>
            <a:chExt cx="7543800" cy="5469480"/>
          </a:xfrm>
        </p:grpSpPr>
        <p:grpSp>
          <p:nvGrpSpPr>
            <p:cNvPr id="444" name=""/>
            <p:cNvGrpSpPr/>
            <p:nvPr/>
          </p:nvGrpSpPr>
          <p:grpSpPr>
            <a:xfrm>
              <a:off x="933480" y="236520"/>
              <a:ext cx="6743520" cy="1442160"/>
              <a:chOff x="933480" y="236520"/>
              <a:chExt cx="6743520" cy="1442160"/>
            </a:xfrm>
          </p:grpSpPr>
          <p:sp>
            <p:nvSpPr>
              <p:cNvPr id="445" name=""/>
              <p:cNvSpPr/>
              <p:nvPr/>
            </p:nvSpPr>
            <p:spPr>
              <a:xfrm>
                <a:off x="3333600" y="236520"/>
                <a:ext cx="1695600" cy="459720"/>
              </a:xfrm>
              <a:prstGeom prst="rect">
                <a:avLst/>
              </a:prstGeom>
              <a:gradFill rotWithShape="0">
                <a:gsLst>
                  <a:gs pos="0">
                    <a:srgbClr val="8686a8"/>
                  </a:gs>
                  <a:gs pos="50000">
                    <a:srgbClr val="ccccff"/>
                  </a:gs>
                  <a:gs pos="100000">
                    <a:srgbClr val="8686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earin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33480" y="914400"/>
                <a:ext cx="6743520" cy="764280"/>
              </a:xfrm>
              <a:prstGeom prst="rect">
                <a:avLst/>
              </a:prstGeom>
              <a:gradFill rotWithShape="0">
                <a:gsLst>
                  <a:gs pos="0">
                    <a:srgbClr val="212186"/>
                  </a:gs>
                  <a:gs pos="50000">
                    <a:srgbClr val="3333cc"/>
                  </a:gs>
                  <a:gs pos="100000">
                    <a:srgbClr val="2121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cc"/>
                    </a:solidFill>
                    <a:latin typeface="Comic Sans MS"/>
                  </a:rPr>
                  <a:t>Measuring the bearing of one point from another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104920" y="3222720"/>
              <a:ext cx="628560" cy="1866240"/>
              <a:chOff x="2104920" y="3222720"/>
              <a:chExt cx="628560" cy="1866240"/>
            </a:xfrm>
          </p:grpSpPr>
          <p:sp>
            <p:nvSpPr>
              <p:cNvPr id="448" name=""/>
              <p:cNvSpPr/>
              <p:nvPr/>
            </p:nvSpPr>
            <p:spPr>
              <a:xfrm flipV="1">
                <a:off x="2448000" y="3736440"/>
                <a:ext cx="0" cy="13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04920" y="3222720"/>
                <a:ext cx="62856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454120" y="372420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584680" y="2898720"/>
              <a:ext cx="79380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06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67320" y="3562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9800" y="3433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66960" y="51436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86080" y="5076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448000" y="3495240"/>
              <a:ext cx="303840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133960" y="1565280"/>
              <a:ext cx="628560" cy="1866240"/>
              <a:chOff x="5133960" y="1565280"/>
              <a:chExt cx="628560" cy="1866240"/>
            </a:xfrm>
          </p:grpSpPr>
          <p:sp>
            <p:nvSpPr>
              <p:cNvPr id="458" name=""/>
              <p:cNvSpPr/>
              <p:nvPr/>
            </p:nvSpPr>
            <p:spPr>
              <a:xfrm flipV="1">
                <a:off x="5477040" y="2079000"/>
                <a:ext cx="0" cy="13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33960" y="1565280"/>
                <a:ext cx="628560" cy="398880"/>
              </a:xfrm>
              <a:prstGeom prst="rect">
                <a:avLst/>
              </a:prstGeom>
              <a:gradFill rotWithShape="0">
                <a:gsLst>
                  <a:gs pos="0">
                    <a:srgbClr val="a8a886"/>
                  </a:gs>
                  <a:gs pos="50000">
                    <a:srgbClr val="ffffcc"/>
                  </a:gs>
                  <a:gs pos="100000">
                    <a:srgbClr val="a8a886"/>
                  </a:gs>
                </a:gsLst>
                <a:lin ang="54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483160" y="206676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17600" y="4794120"/>
              <a:ext cx="793800" cy="39888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240</a:t>
              </a:r>
              <a:r>
                <a:rPr b="0" lang="en-US" sz="2000" spc="-1" strike="noStrike" baseline="30000">
                  <a:solidFill>
                    <a:srgbClr val="3333cc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81520" y="4514760"/>
              <a:ext cx="3695760" cy="1191240"/>
            </a:xfrm>
            <a:prstGeom prst="rect">
              <a:avLst/>
            </a:prstGeom>
            <a:gradFill rotWithShape="0">
              <a:gsLst>
                <a:gs pos="0">
                  <a:srgbClr val="5fa5a7"/>
                </a:gs>
                <a:gs pos="50000">
                  <a:srgbClr val="91fafd"/>
                </a:gs>
                <a:gs pos="100000">
                  <a:srgbClr val="5fa5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w are the bearings of A and B from each other related and wh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0" y="623268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455920" y="1969920"/>
            <a:ext cx="3000240" cy="301968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66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343080" y="48578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890520" y="3476520"/>
            <a:ext cx="2876760" cy="15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2440" y="544824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6200" y="604836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562200" y="1695600"/>
            <a:ext cx="628920" cy="1777680"/>
            <a:chOff x="3562200" y="1695600"/>
            <a:chExt cx="628920" cy="1777680"/>
          </a:xfrm>
        </p:grpSpPr>
        <p:sp>
          <p:nvSpPr>
            <p:cNvPr id="473" name=""/>
            <p:cNvSpPr/>
            <p:nvPr/>
          </p:nvSpPr>
          <p:spPr>
            <a:xfrm flipV="1">
              <a:off x="3905280" y="220968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62200" y="1695600"/>
              <a:ext cx="62892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911760" y="21970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81320" y="1495440"/>
            <a:ext cx="5686560" cy="3993480"/>
            <a:chOff x="3181320" y="1495440"/>
            <a:chExt cx="5686560" cy="3993480"/>
          </a:xfrm>
        </p:grpSpPr>
        <p:sp>
          <p:nvSpPr>
            <p:cNvPr id="477" name=""/>
            <p:cNvSpPr/>
            <p:nvPr/>
          </p:nvSpPr>
          <p:spPr>
            <a:xfrm>
              <a:off x="6705720" y="4981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1320" y="3219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81680" y="5029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4480" y="149544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Q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52720" y="3419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953400" y="4603680"/>
            <a:ext cx="79344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18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86640" y="621360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313240" y="3538440"/>
            <a:ext cx="3000600" cy="301968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933480" y="236520"/>
            <a:ext cx="6743520" cy="1442160"/>
            <a:chOff x="933480" y="236520"/>
            <a:chExt cx="6743520" cy="1442160"/>
          </a:xfrm>
        </p:grpSpPr>
        <p:sp>
          <p:nvSpPr>
            <p:cNvPr id="486" name=""/>
            <p:cNvSpPr/>
            <p:nvPr/>
          </p:nvSpPr>
          <p:spPr>
            <a:xfrm>
              <a:off x="3333600" y="236520"/>
              <a:ext cx="1695600" cy="459720"/>
            </a:xfrm>
            <a:prstGeom prst="rect">
              <a:avLst/>
            </a:prstGeom>
            <a:gradFill rotWithShape="0">
              <a:gsLst>
                <a:gs pos="0">
                  <a:srgbClr val="8686a8"/>
                </a:gs>
                <a:gs pos="50000">
                  <a:srgbClr val="ccccff"/>
                </a:gs>
                <a:gs pos="100000">
                  <a:srgbClr val="8686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33480" y="914400"/>
              <a:ext cx="6743520" cy="764280"/>
            </a:xfrm>
            <a:prstGeom prst="rect">
              <a:avLst/>
            </a:prstGeom>
            <a:gradFill rotWithShape="0">
              <a:gsLst>
                <a:gs pos="0">
                  <a:srgbClr val="212186"/>
                </a:gs>
                <a:gs pos="50000">
                  <a:srgbClr val="3333cc"/>
                </a:gs>
                <a:gs pos="100000">
                  <a:srgbClr val="2121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Comic Sans MS"/>
                </a:rPr>
                <a:t>Measuring the bearing of one point from anothe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43080" y="4857840"/>
            <a:ext cx="547668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straight line between both po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890520" y="3476520"/>
            <a:ext cx="2876760" cy="15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2440" y="5448240"/>
            <a:ext cx="548640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Nor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line at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6200" y="6048360"/>
            <a:ext cx="5514840" cy="398880"/>
          </a:xfrm>
          <a:prstGeom prst="rect">
            <a:avLst/>
          </a:prstGeom>
          <a:gradFill rotWithShape="0">
            <a:gsLst>
              <a:gs pos="0">
                <a:srgbClr val="508b8d"/>
              </a:gs>
              <a:gs pos="50000">
                <a:srgbClr val="91fafd"/>
              </a:gs>
              <a:gs pos="100000">
                <a:srgbClr val="508b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asure angle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438960" y="2381400"/>
            <a:ext cx="628560" cy="2685600"/>
            <a:chOff x="6438960" y="2381400"/>
            <a:chExt cx="628560" cy="2685600"/>
          </a:xfrm>
        </p:grpSpPr>
        <p:sp>
          <p:nvSpPr>
            <p:cNvPr id="493" name=""/>
            <p:cNvSpPr/>
            <p:nvPr/>
          </p:nvSpPr>
          <p:spPr>
            <a:xfrm flipV="1">
              <a:off x="6781680" y="2895120"/>
              <a:ext cx="0" cy="21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38960" y="2381400"/>
              <a:ext cx="628560" cy="398880"/>
            </a:xfrm>
            <a:prstGeom prst="rect">
              <a:avLst/>
            </a:prstGeom>
            <a:gradFill rotWithShape="0">
              <a:gsLst>
                <a:gs pos="0">
                  <a:srgbClr val="a8a886"/>
                </a:gs>
                <a:gs pos="50000">
                  <a:srgbClr val="ffffcc"/>
                </a:gs>
                <a:gs pos="100000">
                  <a:srgbClr val="a8a886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788160" y="28828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57040" y="1533600"/>
            <a:ext cx="7096320" cy="3955320"/>
            <a:chOff x="257040" y="1533600"/>
            <a:chExt cx="7096320" cy="3955320"/>
          </a:xfrm>
        </p:grpSpPr>
        <p:sp>
          <p:nvSpPr>
            <p:cNvPr id="497" name=""/>
            <p:cNvSpPr/>
            <p:nvPr/>
          </p:nvSpPr>
          <p:spPr>
            <a:xfrm>
              <a:off x="6705720" y="4981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81320" y="3219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81680" y="502920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7040" y="1533600"/>
              <a:ext cx="4343400" cy="398880"/>
            </a:xfrm>
            <a:prstGeom prst="rect">
              <a:avLst/>
            </a:prstGeom>
            <a:gradFill rotWithShape="0">
              <a:gsLst>
                <a:gs pos="0">
                  <a:srgbClr val="65a886"/>
                </a:gs>
                <a:gs pos="50000">
                  <a:srgbClr val="99ffcc"/>
                </a:gs>
                <a:gs pos="100000">
                  <a:srgbClr val="65a8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 Find the bearing of P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from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52720" y="3419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219480" y="2889360"/>
            <a:ext cx="793800" cy="3988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98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67560" y="6194520"/>
            <a:ext cx="21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hee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17:46:46Z</dcterms:created>
  <dc:creator>MIKE CROWLEY</dc:creator>
  <dc:description/>
  <dc:language>en-US</dc:language>
  <cp:lastModifiedBy>Caroline</cp:lastModifiedBy>
  <dcterms:modified xsi:type="dcterms:W3CDTF">2008-12-07T17:36:22Z</dcterms:modified>
  <cp:revision>2</cp:revision>
  <dc:subject/>
  <dc:title>PowerPoint Presentation</dc:title>
</cp:coreProperties>
</file>